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D314-21A8-4899-801F-D8982B64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EE8-A90F-4A4D-A337-B02CADED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4C74-3B12-4BEF-8B16-2E8DFCE1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371-86E7-4784-B61B-D206C21C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7782-74B9-4C0A-ABFA-6AB35615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1C20-ADD3-42F4-AF04-AA43BC02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465C-77B4-4045-94EB-B67675F6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6175-3535-4C8B-B4A8-1414E590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99C5-DB52-44DE-807B-7605A095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F98E-54AA-4445-AD5F-8CC0E6F8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72C8-C143-464C-B8AA-54E4E961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716-26FE-4238-9D4B-858BD51E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3191-98E4-4247-8233-AF2FC2035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M 4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e of Return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need Increment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re comparing alternatives and are given the MARR.  PW or EACF will give you the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ess you must do B/C because costs and benefits accrue to different ent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ublic works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ment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ually Exclusive Alternati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7920" y="3657600"/>
            <a:ext cx="12189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2743200"/>
            <a:ext cx="12189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411480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2362320"/>
            <a:ext cx="1522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62120" y="1725480"/>
            <a:ext cx="299880" cy="663840"/>
          </a:xfrm>
          <a:custGeom>
            <a:avLst/>
            <a:gdLst/>
            <a:ahLst/>
            <a:rect l="l" t="t" r="r" b="b"/>
            <a:pathLst>
              <a:path w="189" h="418">
                <a:moveTo>
                  <a:pt x="0" y="418"/>
                </a:moveTo>
                <a:cubicBezTo>
                  <a:pt x="13" y="315"/>
                  <a:pt x="12" y="302"/>
                  <a:pt x="79" y="235"/>
                </a:cubicBezTo>
                <a:cubicBezTo>
                  <a:pt x="66" y="231"/>
                  <a:pt x="40" y="236"/>
                  <a:pt x="40" y="222"/>
                </a:cubicBezTo>
                <a:cubicBezTo>
                  <a:pt x="40" y="208"/>
                  <a:pt x="71" y="220"/>
                  <a:pt x="79" y="209"/>
                </a:cubicBezTo>
                <a:cubicBezTo>
                  <a:pt x="99" y="179"/>
                  <a:pt x="80" y="130"/>
                  <a:pt x="105" y="104"/>
                </a:cubicBezTo>
                <a:cubicBezTo>
                  <a:pt x="189" y="19"/>
                  <a:pt x="170" y="120"/>
                  <a:pt x="1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380988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380988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297180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297180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43434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4648320"/>
            <a:ext cx="2057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story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3733920"/>
            <a:ext cx="1219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4191120"/>
            <a:ext cx="3045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388620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388620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441972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3352680"/>
            <a:ext cx="1522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4724280"/>
            <a:ext cx="1752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story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3657600"/>
            <a:ext cx="12189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2743200"/>
            <a:ext cx="12189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411480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2362320"/>
            <a:ext cx="1522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62120" y="1725480"/>
            <a:ext cx="299880" cy="663840"/>
          </a:xfrm>
          <a:custGeom>
            <a:avLst/>
            <a:gdLst/>
            <a:ahLst/>
            <a:rect l="l" t="t" r="r" b="b"/>
            <a:pathLst>
              <a:path w="189" h="418">
                <a:moveTo>
                  <a:pt x="0" y="418"/>
                </a:moveTo>
                <a:cubicBezTo>
                  <a:pt x="13" y="315"/>
                  <a:pt x="12" y="302"/>
                  <a:pt x="79" y="235"/>
                </a:cubicBezTo>
                <a:cubicBezTo>
                  <a:pt x="66" y="231"/>
                  <a:pt x="40" y="236"/>
                  <a:pt x="40" y="222"/>
                </a:cubicBezTo>
                <a:cubicBezTo>
                  <a:pt x="40" y="208"/>
                  <a:pt x="71" y="220"/>
                  <a:pt x="79" y="209"/>
                </a:cubicBezTo>
                <a:cubicBezTo>
                  <a:pt x="99" y="179"/>
                  <a:pt x="80" y="130"/>
                  <a:pt x="105" y="104"/>
                </a:cubicBezTo>
                <a:cubicBezTo>
                  <a:pt x="189" y="19"/>
                  <a:pt x="170" y="120"/>
                  <a:pt x="1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380988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380988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297180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297180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43434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4648320"/>
            <a:ext cx="2057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story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733920"/>
            <a:ext cx="1219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4191120"/>
            <a:ext cx="3045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388620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388620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441972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3352680"/>
            <a:ext cx="1522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4724280"/>
            <a:ext cx="1752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story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25880" y="411480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267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1911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2895480"/>
            <a:ext cx="1219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312408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312408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648320"/>
            <a:ext cx="1752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 between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about the 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ney you do not spend on the higher priced alternative is reinvested at the MA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com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xpensive alternative return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IRR is not apples vs. ap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look at inc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0" y="19080"/>
          <a:ext cx="9144000" cy="683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80"/>
                    <a:ext cx="9144000" cy="68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o Use “Increment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utually exclusive and MARR expressed as “at least” or “must be greater tha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ndependent decision, such as choosing bonds, you should use RoR but not the Incremental ana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tually Exclus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hrow out non-feasible, that is, RoR less than MARR or technically inadequ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This step is usually assumed to ha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en done before the problem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all feasible alternatives will meet the minimum requi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then is, what is the return on the extra money for the more expensive investment.  Chevy Vs. Cadill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k alternatives from cheapest first cost to most expe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“do nothing” is feasible, rank it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from cheapest to next more expensive by subtracting.  Determine the RoR on the del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oR on delta is less than MARR, throw out the more expen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Methods of Evaluating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F (Chapter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(Chapter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e of Return (Chapter 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 / Cost (Chapter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me conclusion will be reached using any one of these evalu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0"/>
          <a:ext cx="9144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85800" y="380880"/>
          <a:ext cx="80010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0880"/>
                    <a:ext cx="8001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80880" y="0"/>
          <a:ext cx="830592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30592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609480" y="457200"/>
          <a:ext cx="769644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769644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e of Retur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est presentation for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ment A returns 18%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ment B returns 16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a YES-NO decision based on MA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te of return (RoR) is that value of “i” for which the present worth of the benefits (receipts) equals the present worth of the costs (disbursement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olve for “i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” is not given or is given as “greater tha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R analysis can be used to rank alterna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must have cash benefits and c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Method: Solve by manipulating formulas or interpolating from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’s Method: Utilize Spreadsheet function “IRR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Section 5.2 on Page 59, 2d 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pter_5_Examples, Ex 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d 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n year bond pays 8% interest per annum, payable annually.  What is the Rate of Return if the bond sells for $4,600?  Why would you pay for the bond if your MARR is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f CF is all cos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do RoR on something that is all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ompare alternatives by noting the RoR on their difference. (Excel Table 5-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3124080"/>
          <a:ext cx="7391520" cy="3265560"/>
        </p:xfrm>
        <a:graphic>
          <a:graphicData uri="http://schemas.openxmlformats.org/drawingml/2006/table">
            <a:tbl>
              <a:tblPr/>
              <a:tblGrid>
                <a:gridCol w="2463840"/>
                <a:gridCol w="2463840"/>
                <a:gridCol w="2463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rn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nual 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vage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 Li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=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eq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use repeatability assu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Table 5-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mental Analysi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mental analysis looks at the difference between the costs and benefits between alternatives, rather than at the PW or EACF of the alterna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tion of incremental analysis arises with the RoR method and the Benefit/Cost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2T22:51:39Z</dcterms:created>
  <dc:creator>Robert A. Perkins</dc:creator>
  <dc:description/>
  <dc:language>en-US</dc:language>
  <cp:lastModifiedBy>Robert A. Perkins</cp:lastModifiedBy>
  <dcterms:modified xsi:type="dcterms:W3CDTF">2006-02-02T03:33:22Z</dcterms:modified>
  <cp:revision>13</cp:revision>
  <dc:subject/>
  <dc:title>ESM 450</dc:title>
</cp:coreProperties>
</file>