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E34-6C95-4501-9D6C-D2FE016B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8A8-B280-445A-BAE4-E91DA905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D9A-A8FA-4DDD-B68F-3B89499D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F98-70CC-4585-8ED7-5DA3EFCD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525-EF8A-4C02-A949-827567D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A10-4409-4149-8204-F897C109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980-3E8F-4089-95B1-B328ACD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9B8-F41D-422E-BB69-DB3D6218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384-1531-472F-B1B9-6099DF9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665-91D8-4BEA-8EC8-5C8B225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C6A-4358-40CC-B291-A6D013C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FDD-D9C8-4C25-9EBD-6774B3D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D57-8D5A-45C3-BA49-F10237EE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Annua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Worth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60280" y="763560"/>
          <a:ext cx="242568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763560"/>
                    <a:ext cx="24256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57600" y="777960"/>
          <a:ext cx="6906960" cy="417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7600" y="777960"/>
                    <a:ext cx="69069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895480" y="380880"/>
          <a:ext cx="5943600" cy="5410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0880"/>
                    <a:ext cx="5943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27672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38080" y="1066320"/>
            <a:ext cx="0" cy="22100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71800" y="1142640"/>
            <a:ext cx="0" cy="2133720"/>
          </a:xfrm>
          <a:prstGeom prst="line">
            <a:avLst/>
          </a:prstGeom>
          <a:ln w="572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57800" y="1066320"/>
            <a:ext cx="0" cy="2210040"/>
          </a:xfrm>
          <a:prstGeom prst="line">
            <a:avLst/>
          </a:prstGeom>
          <a:ln w="57240">
            <a:solidFill>
              <a:srgbClr val="66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21932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0020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71800" y="287604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3828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1  2    3    4    5     6    7    8   9   10 11  12  13  14  1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0532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8620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34340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287604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2428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55308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467480" y="287604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Excel, Class4Examples, Shee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Worth “P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find the equivalent of both alternatives at time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F*(1+i)^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V, if payments are un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t Annual Cash Flow “EACF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equivalent an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presen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use the PM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ssuming repeatability, the length of life does no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, HW2_Clas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n Blackboard, Chapter 3 Examples, to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1, Page 55, Replace furn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59, LA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NPV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PV function will find the equivalent at time zero of uneven cash flows – the usual case.  It is a very handy function, if you remember two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ut “0” in years without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Keep the Initial Cost (time zero) out of the NPV function and add it separ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44800" y="298440"/>
          <a:ext cx="6508800" cy="62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298440"/>
                    <a:ext cx="65088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2860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Example 1, She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nly worked out neatly because the service lives of the shallow bed was a nice multiple of the service life of the package plant.  Generally, if lives are unequal, the EACF is much sim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capitalized cost” for infinite service life A = Initial Cost *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ho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Primer Chapters 3 an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” vs. “Intangibl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n Excel, HW 2_Class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2-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ways to evaluat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Annual Cash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metimes equivalent uniform cash f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enefit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Class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3 and 4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with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higher bene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r budget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have equal (or unstated)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lowest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with benefits and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with both costs and benefi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Receipts Minus Disbu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with sign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= EAR - 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of Receipts  -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of Disburs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F vs. P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, reduce all R and D of alternatives to their annual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, bring all R and D of alternatives to the same time, usually year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52280"/>
          <a:ext cx="8610480" cy="632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6104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094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* =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06:16Z</dcterms:created>
  <dc:creator>Robert A. Perkins</dc:creator>
  <dc:description/>
  <dc:language>en-US</dc:language>
  <cp:lastModifiedBy>Robert A. Perkins</cp:lastModifiedBy>
  <cp:lastPrinted>2001-09-16T19:17:50Z</cp:lastPrinted>
  <dcterms:modified xsi:type="dcterms:W3CDTF">2006-01-30T23:42:43Z</dcterms:modified>
  <cp:revision>15</cp:revision>
  <dc:subject/>
  <dc:title>ESM 450</dc:title>
</cp:coreProperties>
</file>