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07B-E05A-4AC4-848F-CAA8D54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851-BB9C-4F7E-BB57-6DDE1DCF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9F4-DD15-4506-BEF3-34DCC07E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015-07ED-4A6C-AB9C-3399C969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4A3-EF4E-4D1B-A9E6-5910112E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1E2-4839-4D47-A64F-6158BB8C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A18-31FF-40D1-8E4D-57CFBDB8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388-5791-4AEE-A4B5-8CD74611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A24-5603-4E9D-A77C-D999BD13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9B3-ACA7-4128-8CE0-25F21807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314-1406-4321-94B3-77D89102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452-4842-4EE9-950E-D2EB40B4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932-35A8-4340-A54D-467DE489E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-Cos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M 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/Cos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deral government is considering demolishing a large dam on the Columbia River in Idaho.  Cost of dam demolition is 50 million.  What are other costs and benefits and who pays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way that ran over top of d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 of marina on old l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/C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d control for towns downst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t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n fishers on coa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tate, coun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of cheap hydroelectric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t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s and Benefits accrue to different ent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d Control Act of 19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must outweigh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homsoever they may accr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– C &gt; 0     or    B/C 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man’s benefit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project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rovers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 are frequently und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alysts try to only use construction costs (which is usually direct cost to the federal government) in the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sts are called “disbenefits” and are placed in the numerator as a 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/Cost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numerical value of benefit/cost ratio will vary depending o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ill always be greater than one if the benefits outweigh the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 problems you would have to be told which method to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 6.3 page 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/C Increment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/C problems you will be given “i” and must decide if you will use EACF or P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you must check each alternative and verify that they have a B/C&gt;1, if not then re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up cheapest to most expensive first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with the cheapest, subtract benefits and costs from the next more costly and test if the B/C of the delta is &gt;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5 by B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20:55:43Z</dcterms:created>
  <dc:creator>Robert A. Perkins</dc:creator>
  <dc:description/>
  <dc:language>en-US</dc:language>
  <cp:lastModifiedBy>Robert A. Perkins</cp:lastModifiedBy>
  <dcterms:modified xsi:type="dcterms:W3CDTF">2006-02-02T03:49:10Z</dcterms:modified>
  <cp:revision>5</cp:revision>
  <dc:subject/>
  <dc:title>Benefit-Cost Analysis</dc:title>
</cp:coreProperties>
</file>