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8.xml.rels" ContentType="application/vnd.openxmlformats-package.relationships+xml"/>
  <Override PartName="/ppt/notesSlides/_rels/notesSlide147.xml.rels" ContentType="application/vnd.openxmlformats-package.relationships+xml"/>
  <Override PartName="/ppt/notesSlides/_rels/notesSlide55.xml.rels" ContentType="application/vnd.openxmlformats-package.relationships+xml"/>
  <Override PartName="/ppt/notesSlides/notesSlide55.xml" ContentType="application/vnd.openxmlformats-officedocument.presentationml.notesSlide+xml"/>
  <Override PartName="/ppt/notesSlides/notesSlide147.xml" ContentType="application/vnd.openxmlformats-officedocument.presentationml.notesSlide+xml"/>
  <Override PartName="/ppt/notesSlides/notesSlide1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959E-9D7F-4CF3-9C05-A19465A63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CFCE-59F4-42ED-A1F1-D418505EC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 team, shareholders, unions, agiencies, suppliers, customers</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94A5-8B8D-469B-9852-9D802579A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citizens, consumer groups, environmental groups, “watchdog” groups, anyone who believes they will be affected by the projec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E838-9A3A-41C2-AAD0-120E6FD6D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termine this, we must know the organizations strategy.  Where is it going and how will it get t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5C8B7-5395-4D2A-A0EB-E02C19B3A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3B14A-7FC7-45F4-A76D-D5967E3E2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F18B5-8E80-4E8A-A289-A35BBE2D9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14186-4E43-46E1-8C6D-DC06A8653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588E-C6E5-4FAB-ADB6-39BF3ACF9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EDF15-02F3-4CB4-A432-851522D16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D08A1-066D-4615-A215-702D4891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19C40-AB45-4193-B4BF-73FFF4204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C8F9E-7416-4628-89E4-7942B7A01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50ED-5F2F-4CE6-A8B9-FA4FD9A90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D3F0-399F-4B89-A541-A0BB687F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029FE-294C-4FAE-9276-73ECED30D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11BE-4899-4A80-B447-CB31D3FA4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hyperlink" Target="http://www.dps.state.ak.us/Fire/asp/" TargetMode="External"/><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hyperlink" Target="http://www.astm.org/" TargetMode="External"/><Relationship Id="rId2" Type="http://schemas.openxmlformats.org/officeDocument/2006/relationships/hyperlink" Target="http://www.asme.org/" TargetMode="External"/><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http://www.csinet.org/about.htm" TargetMode="External"/><Relationship Id="rId2" Type="http://schemas.openxmlformats.org/officeDocument/2006/relationships/hyperlink" Target="http://www.csinet.org/technic/master/arcomms.htm" TargetMode="External"/><Relationship Id="rId3" Type="http://schemas.openxmlformats.org/officeDocument/2006/relationships/hyperlink" Target="http://www.ccb.org/ufgs/ufgs.htm" TargetMode="External"/><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access.gpo.gov/nara/cfr/waisidx_99/41cfrv1_99.html#50-1" TargetMode="External"/><Relationship Id="rId2" Type="http://schemas.openxmlformats.org/officeDocument/2006/relationships/hyperlink" Target="http://www.access.gpo.gov/nara/cfr/waisidx_99/48cfrv1_99.html" TargetMode="External"/><Relationship Id="rId3" Type="http://schemas.openxmlformats.org/officeDocument/2006/relationships/hyperlink" Target="http://www.touchngo.com/lglcntr/akstats/Statutes/Title36/Chapter30.htm"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dot.state.ak.us/stwddes/dcsspecs/resources.shtml"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miamidade.gov/wasd/about_table_org.asp" TargetMode="External"/><Relationship Id="rId2" Type="http://schemas.openxmlformats.org/officeDocument/2006/relationships/hyperlink" Target="http://www.miamidade.gov/wasd/about_table_org.asp" TargetMode="External"/><Relationship Id="rId3" Type="http://schemas.openxmlformats.org/officeDocument/2006/relationships/hyperlink" Target="http://www.miamidade.gov/wasd/about_table_org.asp" TargetMode="External"/><Relationship Id="rId4" Type="http://schemas.openxmlformats.org/officeDocument/2006/relationships/hyperlink" Target="http://www.miamidade.gov/wasd/about_table_org.asp" TargetMode="External"/><Relationship Id="rId5" Type="http://schemas.openxmlformats.org/officeDocument/2006/relationships/hyperlink" Target="http://www.miamidade.gov/wasd/about_table_org.asp" TargetMode="External"/><Relationship Id="rId6" Type="http://schemas.openxmlformats.org/officeDocument/2006/relationships/hyperlink" Target="http://www.miamidade.gov/wasd/about_table_org.asp" TargetMode="External"/><Relationship Id="rId7" Type="http://schemas.openxmlformats.org/officeDocument/2006/relationships/hyperlink" Target="http://www.miamidade.gov/wasd/about_table_org.asp" TargetMode="External"/><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http://www.state.ak.us/local/akpages/ENV.CONSERV/permits.htm" TargetMode="External"/><Relationship Id="rId2" Type="http://schemas.openxmlformats.org/officeDocument/2006/relationships/hyperlink" Target="http://info.dec.state.ak.us/sps/document.asp" TargetMode="Externa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poa.usace.army.mil/ORG/OrgChart.htm" TargetMode="Externa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SM 40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January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D61DFC-E9E4-4669-86AB-510B0E300D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a:t>
            </a:r>
            <a:endParaRPr b="0" lang="en-US" sz="3200" spc="-1" strike="noStrike">
              <a:solidFill>
                <a:srgbClr val="000000"/>
              </a:solidFill>
              <a:latin typeface="Times New Roman"/>
            </a:endParaRPr>
          </a:p>
        </p:txBody>
      </p:sp>
      <p:sp>
        <p:nvSpPr>
          <p:cNvPr id="123" name=""/>
          <p:cNvSpPr/>
          <p:nvPr/>
        </p:nvSpPr>
        <p:spPr>
          <a:xfrm>
            <a:off x="2971800" y="31240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O Boeing</a:t>
            </a:r>
            <a:endParaRPr b="0" lang="en-US" sz="2400" spc="-1" strike="noStrike">
              <a:solidFill>
                <a:srgbClr val="000000"/>
              </a:solidFill>
              <a:latin typeface="Times New Roman"/>
            </a:endParaRPr>
          </a:p>
        </p:txBody>
      </p:sp>
      <p:sp>
        <p:nvSpPr>
          <p:cNvPr id="124" name=""/>
          <p:cNvSpPr/>
          <p:nvPr/>
        </p:nvSpPr>
        <p:spPr>
          <a:xfrm>
            <a:off x="1295280" y="47242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47 Jets</a:t>
            </a:r>
            <a:endParaRPr b="0" lang="en-US" sz="2400" spc="-1" strike="noStrike">
              <a:solidFill>
                <a:srgbClr val="000000"/>
              </a:solidFill>
              <a:latin typeface="Times New Roman"/>
            </a:endParaRPr>
          </a:p>
        </p:txBody>
      </p:sp>
      <p:sp>
        <p:nvSpPr>
          <p:cNvPr id="125" name=""/>
          <p:cNvSpPr/>
          <p:nvPr/>
        </p:nvSpPr>
        <p:spPr>
          <a:xfrm>
            <a:off x="3809880" y="4648320"/>
            <a:ext cx="1295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7 Jets</a:t>
            </a:r>
            <a:endParaRPr b="0" lang="en-US" sz="2400" spc="-1" strike="noStrike">
              <a:solidFill>
                <a:srgbClr val="000000"/>
              </a:solidFill>
              <a:latin typeface="Times New Roman"/>
            </a:endParaRPr>
          </a:p>
        </p:txBody>
      </p:sp>
      <p:sp>
        <p:nvSpPr>
          <p:cNvPr id="126" name=""/>
          <p:cNvSpPr/>
          <p:nvPr/>
        </p:nvSpPr>
        <p:spPr>
          <a:xfrm>
            <a:off x="5791320" y="4724280"/>
            <a:ext cx="1295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lanes</a:t>
            </a:r>
            <a:endParaRPr b="0" lang="en-US" sz="2400" spc="-1" strike="noStrike">
              <a:solidFill>
                <a:srgbClr val="000000"/>
              </a:solidFill>
              <a:latin typeface="Times New Roman"/>
            </a:endParaRPr>
          </a:p>
        </p:txBody>
      </p:sp>
      <p:sp>
        <p:nvSpPr>
          <p:cNvPr id="127" name=""/>
          <p:cNvSpPr/>
          <p:nvPr/>
        </p:nvSpPr>
        <p:spPr>
          <a:xfrm>
            <a:off x="4114800" y="3581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286000" y="419112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9568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5308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BDCA16-E704-4FDD-A390-C82FA662A9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E19457-DDC7-43BA-B51C-7335166AB7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are the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by a profess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ed by a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ill often add modifications to 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uit local condi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760520-52C4-427D-9340-0B6013A6E9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Review</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will often specify review of design by local official.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63015F-B04C-4E60-981E-3BFE1B5795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 provision call for “at least” some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free to do 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s are conservat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ve of life and safe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this not always tru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E7C460-A7BB-42AE-9151-DE05E5ABAD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ps.state.ak.us/Fire/as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4A32B2-1A14-4DF3-A6D7-F5736894BF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 by a professional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dopted by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referenced” in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makes them the law as we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65BC96-C3E6-492D-B227-9142A0A906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etting Bodies</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GI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F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SH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1BCECE-35B4-4C3C-BA59-A38E86DB40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TM/ASME</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Testing and Mater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stm.org</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Mechanical Engine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www.asme.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ical problems, resolv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48BA0F-9668-4D59-B106-EEDC00BC73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standard is relevant, it is a minimum requir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F36A50-6CF3-4184-91B4-C69CE7B0AA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many standards, that are changing all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 to keep 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FAC470-BF8B-46FF-8EB7-3D46B11ED1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rix Organization</a:t>
            </a:r>
            <a:endParaRPr b="0" lang="en-US" sz="4400" spc="-1" strike="noStrike">
              <a:solidFill>
                <a:srgbClr val="000000"/>
              </a:solidFill>
              <a:latin typeface="Times New Roman"/>
            </a:endParaRPr>
          </a:p>
        </p:txBody>
      </p:sp>
      <p:sp>
        <p:nvSpPr>
          <p:cNvPr id="133" name=""/>
          <p:cNvSpPr/>
          <p:nvPr/>
        </p:nvSpPr>
        <p:spPr>
          <a:xfrm>
            <a:off x="48769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O</a:t>
            </a:r>
            <a:endParaRPr b="0" lang="en-US" sz="2400" spc="-1" strike="noStrike">
              <a:solidFill>
                <a:srgbClr val="000000"/>
              </a:solidFill>
              <a:latin typeface="Times New Roman"/>
            </a:endParaRPr>
          </a:p>
        </p:txBody>
      </p:sp>
      <p:sp>
        <p:nvSpPr>
          <p:cNvPr id="134" name=""/>
          <p:cNvSpPr/>
          <p:nvPr/>
        </p:nvSpPr>
        <p:spPr>
          <a:xfrm>
            <a:off x="259092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Mechanical</a:t>
            </a:r>
            <a:endParaRPr b="0" lang="en-US" sz="2400" spc="-1" strike="noStrike">
              <a:solidFill>
                <a:srgbClr val="000000"/>
              </a:solidFill>
              <a:latin typeface="Times New Roman"/>
            </a:endParaRPr>
          </a:p>
        </p:txBody>
      </p:sp>
      <p:sp>
        <p:nvSpPr>
          <p:cNvPr id="135" name=""/>
          <p:cNvSpPr/>
          <p:nvPr/>
        </p:nvSpPr>
        <p:spPr>
          <a:xfrm>
            <a:off x="45720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Civil and Soils</a:t>
            </a:r>
            <a:endParaRPr b="0" lang="en-US" sz="2400" spc="-1" strike="noStrike">
              <a:solidFill>
                <a:srgbClr val="000000"/>
              </a:solidFill>
              <a:latin typeface="Times New Roman"/>
            </a:endParaRPr>
          </a:p>
        </p:txBody>
      </p:sp>
      <p:sp>
        <p:nvSpPr>
          <p:cNvPr id="136" name=""/>
          <p:cNvSpPr/>
          <p:nvPr/>
        </p:nvSpPr>
        <p:spPr>
          <a:xfrm>
            <a:off x="66294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lectrical</a:t>
            </a:r>
            <a:endParaRPr b="0" lang="en-US" sz="2400" spc="-1" strike="noStrike">
              <a:solidFill>
                <a:srgbClr val="000000"/>
              </a:solidFill>
              <a:latin typeface="Times New Roman"/>
            </a:endParaRPr>
          </a:p>
        </p:txBody>
      </p:sp>
      <p:sp>
        <p:nvSpPr>
          <p:cNvPr id="137" name=""/>
          <p:cNvSpPr/>
          <p:nvPr/>
        </p:nvSpPr>
        <p:spPr>
          <a:xfrm>
            <a:off x="609480" y="3809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1 Sid</a:t>
            </a:r>
            <a:endParaRPr b="0" lang="en-US" sz="2400" spc="-1" strike="noStrike">
              <a:solidFill>
                <a:srgbClr val="000000"/>
              </a:solidFill>
              <a:latin typeface="Times New Roman"/>
            </a:endParaRPr>
          </a:p>
        </p:txBody>
      </p:sp>
      <p:sp>
        <p:nvSpPr>
          <p:cNvPr id="138" name=""/>
          <p:cNvSpPr/>
          <p:nvPr/>
        </p:nvSpPr>
        <p:spPr>
          <a:xfrm>
            <a:off x="609480" y="4876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2 Kid</a:t>
            </a:r>
            <a:endParaRPr b="0" lang="en-US" sz="2400" spc="-1" strike="noStrike">
              <a:solidFill>
                <a:srgbClr val="000000"/>
              </a:solidFill>
              <a:latin typeface="Times New Roman"/>
            </a:endParaRPr>
          </a:p>
        </p:txBody>
      </p:sp>
      <p:sp>
        <p:nvSpPr>
          <p:cNvPr id="139" name=""/>
          <p:cNvSpPr/>
          <p:nvPr/>
        </p:nvSpPr>
        <p:spPr>
          <a:xfrm>
            <a:off x="60948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3 Sue</a:t>
            </a:r>
            <a:endParaRPr b="0" lang="en-US" sz="2400" spc="-1" strike="noStrike">
              <a:solidFill>
                <a:srgbClr val="000000"/>
              </a:solidFill>
              <a:latin typeface="Times New Roman"/>
            </a:endParaRPr>
          </a:p>
        </p:txBody>
      </p:sp>
      <p:sp>
        <p:nvSpPr>
          <p:cNvPr id="140" name=""/>
          <p:cNvSpPr/>
          <p:nvPr/>
        </p:nvSpPr>
        <p:spPr>
          <a:xfrm>
            <a:off x="2666880" y="38862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E</a:t>
            </a:r>
            <a:endParaRPr b="0" lang="en-US" sz="2400" spc="-1" strike="noStrike">
              <a:solidFill>
                <a:srgbClr val="000000"/>
              </a:solidFill>
              <a:latin typeface="Times New Roman"/>
            </a:endParaRPr>
          </a:p>
        </p:txBody>
      </p:sp>
      <p:sp>
        <p:nvSpPr>
          <p:cNvPr id="141" name=""/>
          <p:cNvSpPr/>
          <p:nvPr/>
        </p:nvSpPr>
        <p:spPr>
          <a:xfrm>
            <a:off x="4419720" y="3809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E</a:t>
            </a:r>
            <a:endParaRPr b="0" lang="en-US" sz="2400" spc="-1" strike="noStrike">
              <a:solidFill>
                <a:srgbClr val="000000"/>
              </a:solidFill>
              <a:latin typeface="Times New Roman"/>
            </a:endParaRPr>
          </a:p>
        </p:txBody>
      </p:sp>
      <p:sp>
        <p:nvSpPr>
          <p:cNvPr id="142" name=""/>
          <p:cNvSpPr/>
          <p:nvPr/>
        </p:nvSpPr>
        <p:spPr>
          <a:xfrm>
            <a:off x="6400800" y="3733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3" name=""/>
          <p:cNvSpPr/>
          <p:nvPr/>
        </p:nvSpPr>
        <p:spPr>
          <a:xfrm>
            <a:off x="2590920" y="4952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4" name=""/>
          <p:cNvSpPr/>
          <p:nvPr/>
        </p:nvSpPr>
        <p:spPr>
          <a:xfrm>
            <a:off x="43434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CE</a:t>
            </a:r>
            <a:endParaRPr b="0" lang="en-US" sz="2400" spc="-1" strike="noStrike">
              <a:solidFill>
                <a:srgbClr val="000000"/>
              </a:solidFill>
              <a:latin typeface="Times New Roman"/>
            </a:endParaRPr>
          </a:p>
        </p:txBody>
      </p:sp>
      <p:sp>
        <p:nvSpPr>
          <p:cNvPr id="145" name=""/>
          <p:cNvSpPr/>
          <p:nvPr/>
        </p:nvSpPr>
        <p:spPr>
          <a:xfrm>
            <a:off x="61722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E</a:t>
            </a:r>
            <a:endParaRPr b="0" lang="en-US" sz="2400" spc="-1" strike="noStrike">
              <a:solidFill>
                <a:srgbClr val="000000"/>
              </a:solidFill>
              <a:latin typeface="Times New Roman"/>
            </a:endParaRPr>
          </a:p>
        </p:txBody>
      </p:sp>
      <p:sp>
        <p:nvSpPr>
          <p:cNvPr id="146" name=""/>
          <p:cNvSpPr/>
          <p:nvPr/>
        </p:nvSpPr>
        <p:spPr>
          <a:xfrm>
            <a:off x="2590920" y="5867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7" name=""/>
          <p:cNvSpPr/>
          <p:nvPr/>
        </p:nvSpPr>
        <p:spPr>
          <a:xfrm>
            <a:off x="4343400" y="5791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E</a:t>
            </a:r>
            <a:endParaRPr b="0" lang="en-US" sz="2400" spc="-1" strike="noStrike">
              <a:solidFill>
                <a:srgbClr val="000000"/>
              </a:solidFill>
              <a:latin typeface="Times New Roman"/>
            </a:endParaRPr>
          </a:p>
        </p:txBody>
      </p:sp>
      <p:sp>
        <p:nvSpPr>
          <p:cNvPr id="148" name=""/>
          <p:cNvSpPr/>
          <p:nvPr/>
        </p:nvSpPr>
        <p:spPr>
          <a:xfrm>
            <a:off x="63244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9" name=""/>
          <p:cNvSpPr/>
          <p:nvPr/>
        </p:nvSpPr>
        <p:spPr>
          <a:xfrm>
            <a:off x="609480" y="3809880"/>
            <a:ext cx="69343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09480" y="4724280"/>
            <a:ext cx="69343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480" y="5715000"/>
            <a:ext cx="70106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57800" y="2362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2666880"/>
            <a:ext cx="678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0880" y="26668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4038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6019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8851C5-2D80-4B23-B947-F5242E44F4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 might set minimum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for desig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ll welding and radiography on the project will meet API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cite international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se 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04795B-E7E3-4452-9115-DC5C0F5D2D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s</a:t>
            </a: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csinet.org/about.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www.csinet.org/technic/master/arcomms.ht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s of Engin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rPr>
              <a:t>http://www.ccb.org/ufgs/ufgs.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DAFB63-4EAE-47E1-A378-32F4CD91B9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wner may require a standard specification format, that all designers must 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C112D7-EEB5-4A26-A391-097D22479B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One contractual document seem to contradict an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dox:  The more definite you are, the more voluminous the specifications, the greater the chance of a confli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s with specific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each 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its referenced standar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6A5B46-AB53-4BC2-A7A5-757AED4925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s</a:t>
            </a: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may result in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construction, contractor must bid in the least burdensome interpre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ways want more money if there is a chan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3740C1-7FA8-46D4-8E88-0705A5393F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lution</a:t>
            </a: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edence clause of contract may he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tracts have such a cla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234702-6AD7-4D6A-A99D-AD6B687C4B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Specifications</a:t>
            </a: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projects will often adopt standard specification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Style Gu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report fo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 grou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3FC378-C0D6-4D70-A452-113602CEB8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attention early to codes and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them i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ifications can improve communications and reduce errors, if used proper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08DF14-E41D-42D2-B503-1D288F9462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abor</a:t>
            </a: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CDB24B-5F5F-4812-8835-299B6F3C80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Law</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ft-Hart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ts employees the right to “organiz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labor un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ft unions vs. Industrial un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26FEC9-66CB-4C27-82DB-C40605D5CE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zed Organizatio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matrix with decreased or absent functional hea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9E23D1-93F2-43C0-B60C-19E94E29A9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 collar and professional</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ederal, state, and local government workers, including white collar and professional workers, belong to un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 in private enterpr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D31271-A4B2-4BCA-8CAF-C7DC172A3E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Unions</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unions are craft un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u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pment Opera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many oth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union maintains a “hiring h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B9D205-2CF5-4BE3-AC03-DF4F2D318A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must sign a contract with the craft union in order use the hiring h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s are typically for three yea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r cannot hire workers other than those “referred” by the ha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the union the exclusive agent for the work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breach of contract for employer to negotiate with union employee directl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456AA8-86B9-4A39-8AE9-6A97A40C78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establish classes of workers and all workers within the class must be paid the same w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specify “work r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ations on tools and work pract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paint brushes to 4” (10 cm) wid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95C0F3-DB3B-42D0-874E-16D067C8A7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designate certain employees as special representatives of the un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Union Stewa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give preferences, always on the job s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off work to attend to union activiti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i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87516A-D5BF-4FEC-8091-B0172201FA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 will have a “no strike” cla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low downs” are not strik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A4ABCB-8979-4D74-82E2-9A4360E71F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y Crafts</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roject will require labor that belong to 15 or 20 different un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one of the unions might stop work if their contract expired in the middle of the pro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make exorbitant dem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unions, seeing their contracts will expire during the project, will not work eith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eir “no strike clause” or “slow dow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FE7AD-5ED6-4E40-BCC5-73849A1AFE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seeing the large project coming, one craft might conspire with its contrac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sub-contractors on the pro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flate their wage dema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local union contractors will pay the high rate of pa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y all the bid the same work, so their competitive position stays the sam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C37CAA-28BC-4083-9E09-32D4A35603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Non-union</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or Strif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will “picket” the job sit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workers will “honor the picket line” and not go to work – solidarity</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workers will cross the lin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ghts and reprisals “picket line violenc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s of  “unfair labor practic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meaning in labor la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F4C4E1-0F61-4C3A-8366-D0F9F69817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years ago there were many regions of the U.S. where all the major construction work was un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 would not attempt to work non-un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 all bidders have the same probl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s who have good relations with the union are at a competitive adva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 contractors would support unions against non-union contractor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CE66C2-843F-407A-AA6E-1455286E6E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tened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hesis of triangular organiz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directed tea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ing case of flattened organiz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CA0FC1-E34C-479C-9A43-5605C61950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Change</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much work is non-union, more of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n Sh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ubcontractors will be union, some n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on and non-union get along – us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a shortage of skilled lab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066E94-AF13-4217-BBD8-68B00565C3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on Victories</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H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ly supported by unio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s-Bac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minimum wages for certain work for the federal governme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nstruction-type work is covered by Davis-Bac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wage is usually the union wage for the reg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nion guidelines for craf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tates have similar law</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E8A7ED-7732-46E3-BD60-C88AA2DC76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on issues</a:t>
            </a: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ons do not admit all qual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fully control the number of workers in their cra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emand exceed supply, local union will attempt to temporarily import union workers from other ar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let local people work, but make clear they are not members and arrangement is only tempora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3FF7A7-7FA3-4140-BE98-48CF044461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on contract may permit the employer the right to “call out” certain work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employ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man and superviso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unions do not permit ei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who “work with tools” must be dispatched by the un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AF916D-59EC-43C4-82F2-857A67A04C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uption is an issue in some regions of 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or leaders extort bribes and fees in exchange for “labor pe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regions this is not a problem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2B5F41-D738-47DC-A095-7E3520CFC8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abor Agreement</a:t>
            </a: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wner (usually) negotiates an agreement with all the unions that will be involved in a project, before the project is let out to bi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urn for agreeing that the project will be 100% union, the owner will get some concess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overtime pay, transportation allowances, et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 wants agreement earl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nions wants to delay agreement, hoping it will get better deal by “holding ou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0DFAB3-D347-401B-9BDD-8A2489A522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kes</a:t>
            </a: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struction contracts grant excusable delays for “strik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union contract always has a “no strike” clause, strikes are unusu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happy union will resort to slowdow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ckou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trikes or other concerted acts of workme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CD8920-54A0-4D7C-81CD-8F8D640269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ke or Other</a:t>
            </a: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den is on owner, project will be delay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or must pay his overhead, but most costs are suspended while the strike is 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only one of the crafts slows dow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oes it become critical, CP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gue union will be aware when it can hurt the ow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owner to force the contractor to some conc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 will then want more money from the ow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37EBAC-B8FC-4B65-B2AC-DA024DADC4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Projects without Union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jor project will distort local labor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out PLA, different contractors may compete with each other for lab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ding up the wag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conspire” to reduce wag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are reluctant to interfere with contractor’s wage negoti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E63EAC-5F45-4E26-96DC-DAEF76F751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tional Labor</a:t>
            </a: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ways wise to use as much local labor as poss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s may oppose the project to begin wi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s resent foreign work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untries restrict importation of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6BD1B6-C7F6-4ADA-A6FC-14C2C7E753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aspects of P.M</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specificati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42DE17-F756-46CC-B45C-34C69932CD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Locals</a:t>
            </a: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s are often much cheaper on a per manhour b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have the skil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eth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training is requ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barri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E25DE6-CE6B-414B-9935-4D44DF0C120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nic Issues</a:t>
            </a: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locals” are the same ethnic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tell what may hap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partner is often required to navigate through these minefiel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279B98-63B7-4614-ACD4-1B80958D73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Management</a:t>
            </a: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the ow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ssume “Labor is the contractor’s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cipate labor supply, costs, and problems in your project plan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l proactively with project lab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be carefu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DC27D4-A5CF-43A1-8799-B6F0D819CC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s on Project Management</a:t>
            </a:r>
            <a:endParaRPr b="0" lang="en-US" sz="4400" spc="-1" strike="noStrike">
              <a:solidFill>
                <a:srgbClr val="000000"/>
              </a:solidFill>
              <a:latin typeface="Times New Roman"/>
            </a:endParaRPr>
          </a:p>
        </p:txBody>
      </p:sp>
      <p:sp>
        <p:nvSpPr>
          <p:cNvPr id="4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s and labor agreements might not be known, when project budget is determin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7B55B8-3A04-4827-9D5A-4BF19DDFFB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Stakeholders</a:t>
            </a:r>
            <a:endParaRPr b="0" lang="en-US" sz="4400" spc="-1" strike="noStrike">
              <a:solidFill>
                <a:srgbClr val="000000"/>
              </a:solidFill>
              <a:latin typeface="Times New Roman"/>
            </a:endParaRPr>
          </a:p>
        </p:txBody>
      </p:sp>
      <p:sp>
        <p:nvSpPr>
          <p:cNvPr id="4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6F949F-E67F-48ED-85EE-7748D8AE73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a:t>
            </a: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ou must accept as fact that you must manage the project from an overall perspective of all the stakeholders – not just the customers and the organiza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anage” does not mean you can or should do everything all of the stakeholders desire, but you must consider their desi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935957-938E-4C6C-B6EC-FAF7FD040F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are stakeholders?</a:t>
            </a: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is interested in project and espec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can harm a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for explanation, but there is no real organization, it is cha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0725FC-D04A-4BB7-9B83-B0DCE0D94B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takeholders</a:t>
            </a: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egal or contractual obligations to the project t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bcontrac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hol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Agenc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3DD658-93DD-4768-A6DB-BB1BD1ADF4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Stakeholders</a:t>
            </a: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strong interest in proj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 legal ti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ti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ri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ies of prima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commun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C8523B-3704-43F4-926A-EAB119C8E0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 and communications with stakeholders must be appropri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are the s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FCB92F-612F-4613-9C44-D854271332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r Chart Schedule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ntt ch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F20944-2E7C-4C13-A027-618414F554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a:t>
            </a: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tak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 re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ffect of reaction on pro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1DF734-5089-435C-B3BC-654DB93C51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Stakeholders so they learn your fa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contact information, get thei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 out contentious iss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ill arise sooner or la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get surpri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ution in defining scope, budget ti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 promise what you cannot (personally) deliv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2F6D55-451E-45FB-9786-B2DE8E16A7CB}" type="slidenum">
              <a:t>151</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Path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T (Program Evaluation and Review Techni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statistical metho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A70CF6-E432-4596-8B7B-89B208A125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 as Management Tool</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s on critical path delay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del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 on activities with float will not delay job, up to the amount of flo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 with different allocations of  overtime, “crashing” activ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3FDE98-E68C-4138-8632-CEAD8D3B43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rial Accounting, WB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Breakdown Struc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82AC83-0004-4A5E-A336-CDDAF7619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control</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to pen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 up to three months after the fac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rial accounting, cost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AS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5CA92C-AF68-47F2-A6A4-8AB4BD66DC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Project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e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view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and Government’s viewpoi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3FB7DD-8A79-441B-B7FC-39580DB1C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Cost Control</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tim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indicate strong and weak poi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must tie costs to specific activ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D734E8-4F6D-4AF0-A9EB-99CF8A79FB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B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cod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36F12E-537B-4A3D-B317-755FBF1D0F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and Construction</a:t>
            </a:r>
            <a:br>
              <a:rPr sz="4400"/>
            </a:br>
            <a:r>
              <a:rPr b="0" lang="en-US" sz="4400" spc="-1" strike="noStrike">
                <a:solidFill>
                  <a:srgbClr val="000000"/>
                </a:solidFill>
                <a:latin typeface="Times New Roman"/>
              </a:rPr>
              <a:t>Contract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9C6E1C-C414-4892-A2C1-28896BD684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Contracts</a:t>
            </a:r>
            <a:endParaRPr b="0" lang="en-US" sz="4400" spc="-1" strike="noStrike">
              <a:solidFill>
                <a:srgbClr val="000000"/>
              </a:solidFill>
              <a:latin typeface="Times New Roman"/>
            </a:endParaRPr>
          </a:p>
        </p:txBody>
      </p:sp>
      <p:sp>
        <p:nvSpPr>
          <p:cNvPr id="18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 = Architect/Engine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85"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86"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87" name=""/>
          <p:cNvSpPr/>
          <p:nvPr/>
        </p:nvSpPr>
        <p:spPr>
          <a:xfrm flipH="1" flipV="1">
            <a:off x="3433320" y="4845960"/>
            <a:ext cx="1386360" cy="68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88"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a:off x="5145840" y="3621960"/>
            <a:ext cx="1135800" cy="917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0339FB-34B2-42EE-A779-E5C7D8FE0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 contrac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isticated vs. non-sophistic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re non-sophistic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lack clear definition at st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73098B-E20F-4067-B08E-7F93AD36B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ases</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limin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35, 75, 9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docu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CD2F72-F9C8-4656-9B2A-5220924B4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Contracts</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a:t>
            </a:r>
            <a:endParaRPr b="0" lang="en-US" sz="3200" spc="-1" strike="noStrike">
              <a:solidFill>
                <a:srgbClr val="000000"/>
              </a:solidFill>
              <a:latin typeface="Times New Roman"/>
            </a:endParaRPr>
          </a:p>
        </p:txBody>
      </p:sp>
      <p:sp>
        <p:nvSpPr>
          <p:cNvPr id="196"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97"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98"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99"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5151240" y="3689640"/>
            <a:ext cx="89820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FACCD0-C696-424C-B242-30659C01F8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01" name="msotw9_temp0" descr=""/>
          <p:cNvPicPr/>
          <p:nvPr/>
        </p:nvPicPr>
        <p:blipFill>
          <a:blip r:embed="rId1"/>
          <a:stretch/>
        </p:blipFill>
        <p:spPr>
          <a:xfrm>
            <a:off x="380880" y="380880"/>
            <a:ext cx="8382240" cy="5867640"/>
          </a:xfrm>
          <a:prstGeom prst="rect">
            <a:avLst/>
          </a:prstGeom>
          <a:ln w="0">
            <a:noFill/>
          </a:ln>
        </p:spPr>
      </p:pic>
      <p:sp>
        <p:nvSpPr>
          <p:cNvPr id="2" name="PlaceHolder 1"/>
          <p:cNvSpPr>
            <a:spLocks noGrp="1"/>
          </p:cNvSpPr>
          <p:nvPr>
            <p:ph type="sldNum" idx="3"/>
          </p:nvPr>
        </p:nvSpPr>
        <p:spPr/>
        <p:txBody>
          <a:bodyPr/>
          <a:p>
            <a:fld id="{A3A84E00-36D6-4029-93CB-709BFFE436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build</a:t>
            </a:r>
            <a:endParaRPr b="0" lang="en-US" sz="3200" spc="-1" strike="noStrike">
              <a:solidFill>
                <a:srgbClr val="000000"/>
              </a:solidFill>
              <a:latin typeface="Times New Roman"/>
            </a:endParaRPr>
          </a:p>
        </p:txBody>
      </p:sp>
      <p:sp>
        <p:nvSpPr>
          <p:cNvPr id="204" name=""/>
          <p:cNvSpPr/>
          <p:nvPr/>
        </p:nvSpPr>
        <p:spPr>
          <a:xfrm>
            <a:off x="3962520" y="266688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05" name=""/>
          <p:cNvSpPr/>
          <p:nvPr/>
        </p:nvSpPr>
        <p:spPr>
          <a:xfrm>
            <a:off x="3505320" y="441972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06" name=""/>
          <p:cNvSpPr/>
          <p:nvPr/>
        </p:nvSpPr>
        <p:spPr>
          <a:xfrm>
            <a:off x="3809880" y="5562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7" name=""/>
          <p:cNvSpPr/>
          <p:nvPr/>
        </p:nvSpPr>
        <p:spPr>
          <a:xfrm flipH="1">
            <a:off x="4608000" y="3292920"/>
            <a:ext cx="5760" cy="11484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09680" y="4419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9" name=""/>
          <p:cNvSpPr/>
          <p:nvPr/>
        </p:nvSpPr>
        <p:spPr>
          <a:xfrm>
            <a:off x="22860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sp>
        <p:nvSpPr>
          <p:cNvPr id="210" name=""/>
          <p:cNvSpPr/>
          <p:nvPr/>
        </p:nvSpPr>
        <p:spPr>
          <a:xfrm>
            <a:off x="3024360" y="5966280"/>
            <a:ext cx="650880" cy="2160"/>
          </a:xfrm>
          <a:prstGeom prst="line">
            <a:avLst/>
          </a:prstGeom>
          <a:ln w="57240">
            <a:solidFill>
              <a:srgbClr val="ff0066"/>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1" name=""/>
          <p:cNvSpPr/>
          <p:nvPr/>
        </p:nvSpPr>
        <p:spPr>
          <a:xfrm flipV="1">
            <a:off x="2666880" y="5105160"/>
            <a:ext cx="0" cy="685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72000" y="51055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7B72EC-7053-4D0F-A3C2-5FA78DFE89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13" name="msotw9_temp0" descr=""/>
          <p:cNvPicPr/>
          <p:nvPr/>
        </p:nvPicPr>
        <p:blipFill>
          <a:blip r:embed="rId1"/>
          <a:stretch/>
        </p:blipFill>
        <p:spPr>
          <a:xfrm>
            <a:off x="1143000" y="914400"/>
            <a:ext cx="6705720" cy="5105520"/>
          </a:xfrm>
          <a:prstGeom prst="rect">
            <a:avLst/>
          </a:prstGeom>
          <a:ln w="0">
            <a:noFill/>
          </a:ln>
        </p:spPr>
      </p:pic>
      <p:sp>
        <p:nvSpPr>
          <p:cNvPr id="2" name="PlaceHolder 1"/>
          <p:cNvSpPr>
            <a:spLocks noGrp="1"/>
          </p:cNvSpPr>
          <p:nvPr>
            <p:ph type="sldNum" idx="3"/>
          </p:nvPr>
        </p:nvSpPr>
        <p:spPr/>
        <p:txBody>
          <a:bodyPr/>
          <a:p>
            <a:fld id="{6691AB15-FCF2-4D3B-B074-404AAB1403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ject?</a:t>
            </a:r>
            <a:endParaRPr b="0" lang="en-US" sz="4400" spc="-1" strike="noStrike">
              <a:solidFill>
                <a:srgbClr val="000000"/>
              </a:solidFill>
              <a:latin typeface="Times New Roman"/>
            </a:endParaRPr>
          </a:p>
        </p:txBody>
      </p:sp>
      <p:sp>
        <p:nvSpPr>
          <p:cNvPr id="53" name="PlaceHolder 2"/>
          <p:cNvSpPr>
            <a:spLocks noGrp="1"/>
          </p:cNvSpPr>
          <p:nvPr>
            <p:ph/>
          </p:nvPr>
        </p:nvSpPr>
        <p:spPr>
          <a:xfrm>
            <a:off x="11430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f-kind undert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e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nd end poi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CEFD97-752B-46A3-8C15-D2EC7E51D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Project) Management</a:t>
            </a:r>
            <a:endParaRPr b="0" lang="en-US" sz="3200" spc="-1" strike="noStrike">
              <a:solidFill>
                <a:srgbClr val="000000"/>
              </a:solidFill>
              <a:latin typeface="Times New Roman"/>
            </a:endParaRPr>
          </a:p>
        </p:txBody>
      </p:sp>
      <p:sp>
        <p:nvSpPr>
          <p:cNvPr id="216" name=""/>
          <p:cNvSpPr/>
          <p:nvPr/>
        </p:nvSpPr>
        <p:spPr>
          <a:xfrm>
            <a:off x="3809880" y="27432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17" name=""/>
          <p:cNvSpPr/>
          <p:nvPr/>
        </p:nvSpPr>
        <p:spPr>
          <a:xfrm>
            <a:off x="4800600" y="54864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18" name=""/>
          <p:cNvSpPr/>
          <p:nvPr/>
        </p:nvSpPr>
        <p:spPr>
          <a:xfrm>
            <a:off x="1981080" y="54864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19" name=""/>
          <p:cNvSpPr/>
          <p:nvPr/>
        </p:nvSpPr>
        <p:spPr>
          <a:xfrm flipH="1">
            <a:off x="2971440" y="46483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5456520" y="4680360"/>
            <a:ext cx="89784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9880" y="41148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M</a:t>
            </a:r>
            <a:endParaRPr b="0" lang="en-US" sz="3600" spc="-1" strike="noStrike">
              <a:solidFill>
                <a:srgbClr val="000000"/>
              </a:solidFill>
              <a:latin typeface="Times New Roman"/>
            </a:endParaRPr>
          </a:p>
        </p:txBody>
      </p:sp>
      <p:sp>
        <p:nvSpPr>
          <p:cNvPr id="222" name=""/>
          <p:cNvSpPr/>
          <p:nvPr/>
        </p:nvSpPr>
        <p:spPr>
          <a:xfrm>
            <a:off x="4495680" y="3429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B80AA3-B650-4F7D-84DE-01B89BECD3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3" name="msotw9_temp0" descr=""/>
          <p:cNvPicPr/>
          <p:nvPr/>
        </p:nvPicPr>
        <p:blipFill>
          <a:blip r:embed="rId1"/>
          <a:stretch/>
        </p:blipFill>
        <p:spPr>
          <a:xfrm>
            <a:off x="762120" y="762120"/>
            <a:ext cx="7772400" cy="5333760"/>
          </a:xfrm>
          <a:prstGeom prst="rect">
            <a:avLst/>
          </a:prstGeom>
          <a:ln w="0">
            <a:noFill/>
          </a:ln>
        </p:spPr>
      </p:pic>
      <p:sp>
        <p:nvSpPr>
          <p:cNvPr id="2" name="PlaceHolder 1"/>
          <p:cNvSpPr>
            <a:spLocks noGrp="1"/>
          </p:cNvSpPr>
          <p:nvPr>
            <p:ph type="sldNum" idx="3"/>
          </p:nvPr>
        </p:nvSpPr>
        <p:spPr/>
        <p:txBody>
          <a:bodyPr/>
          <a:p>
            <a:fld id="{D197049E-8021-48E7-B996-587E2CB8D1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4" name="msotw9_temp0" descr=""/>
          <p:cNvPicPr/>
          <p:nvPr/>
        </p:nvPicPr>
        <p:blipFill>
          <a:blip r:embed="rId1"/>
          <a:stretch/>
        </p:blipFill>
        <p:spPr>
          <a:xfrm>
            <a:off x="914400" y="762120"/>
            <a:ext cx="7315200" cy="5333760"/>
          </a:xfrm>
          <a:prstGeom prst="rect">
            <a:avLst/>
          </a:prstGeom>
          <a:ln w="0">
            <a:noFill/>
          </a:ln>
        </p:spPr>
      </p:pic>
      <p:sp>
        <p:nvSpPr>
          <p:cNvPr id="2" name="PlaceHolder 1"/>
          <p:cNvSpPr>
            <a:spLocks noGrp="1"/>
          </p:cNvSpPr>
          <p:nvPr>
            <p:ph type="sldNum" idx="3"/>
          </p:nvPr>
        </p:nvSpPr>
        <p:spPr/>
        <p:txBody>
          <a:bodyPr/>
          <a:p>
            <a:fld id="{7EE20A05-9760-43D8-A702-E64CBB47C3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k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 tr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resu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316928-EE41-474E-80BB-9BC09E3085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Contract Payment</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pl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B79C97-CD93-4B16-B3ED-795B66F299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00 CY of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price</a:t>
            </a:r>
            <a:endParaRPr b="0" lang="en-US" sz="3200" spc="-1" strike="noStrike">
              <a:solidFill>
                <a:srgbClr val="000000"/>
              </a:solidFill>
              <a:latin typeface="Times New Roman"/>
            </a:endParaRPr>
          </a:p>
        </p:txBody>
      </p:sp>
      <p:sp>
        <p:nvSpPr>
          <p:cNvPr id="23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pr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plus</a:t>
            </a:r>
            <a:endParaRPr b="0" lang="en-US" sz="3200" spc="-1" strike="noStrike">
              <a:solidFill>
                <a:srgbClr val="000000"/>
              </a:solidFill>
              <a:latin typeface="Times New Roman"/>
            </a:endParaRPr>
          </a:p>
        </p:txBody>
      </p:sp>
      <p:sp>
        <p:nvSpPr>
          <p:cNvPr id="232" name=""/>
          <p:cNvSpPr/>
          <p:nvPr/>
        </p:nvSpPr>
        <p:spPr>
          <a:xfrm flipV="1">
            <a:off x="1752480" y="3809880"/>
            <a:ext cx="2286000" cy="6098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038480" y="3809880"/>
            <a:ext cx="1067040" cy="5335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105520" y="3886200"/>
            <a:ext cx="1676160" cy="457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81680" y="3886200"/>
            <a:ext cx="1752840" cy="6858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114800"/>
            <a:ext cx="228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438280" y="49528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514600" y="4952880"/>
            <a:ext cx="762120" cy="30492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80880" y="4419720"/>
            <a:ext cx="1371600" cy="10666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14400" y="4876920"/>
            <a:ext cx="609480" cy="30456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523880" y="4648320"/>
            <a:ext cx="6934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523880" y="4876920"/>
            <a:ext cx="1219320" cy="75960"/>
          </a:xfrm>
          <a:prstGeom prst="line">
            <a:avLst/>
          </a:prstGeom>
          <a:ln w="38160">
            <a:solidFill>
              <a:srgbClr val="99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3" name=""/>
          <p:cNvSpPr/>
          <p:nvPr/>
        </p:nvSpPr>
        <p:spPr>
          <a:xfrm>
            <a:off x="3352680" y="4952880"/>
            <a:ext cx="5181840" cy="0"/>
          </a:xfrm>
          <a:prstGeom prst="line">
            <a:avLst/>
          </a:prstGeom>
          <a:ln w="38160">
            <a:solidFill>
              <a:srgbClr val="99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438280" y="5257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a:t>
            </a:r>
            <a:endParaRPr b="0" lang="en-US" sz="2400" spc="-1" strike="noStrike">
              <a:solidFill>
                <a:srgbClr val="000000"/>
              </a:solidFill>
              <a:latin typeface="Times New Roman"/>
            </a:endParaRPr>
          </a:p>
        </p:txBody>
      </p:sp>
      <p:sp>
        <p:nvSpPr>
          <p:cNvPr id="245" name=""/>
          <p:cNvSpPr/>
          <p:nvPr/>
        </p:nvSpPr>
        <p:spPr>
          <a:xfrm>
            <a:off x="609480" y="5181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a:t>
            </a:r>
            <a:endParaRPr b="0" lang="en-US" sz="2400" spc="-1" strike="noStrike">
              <a:solidFill>
                <a:srgbClr val="000000"/>
              </a:solidFill>
              <a:latin typeface="Times New Roman"/>
            </a:endParaRPr>
          </a:p>
        </p:txBody>
      </p:sp>
      <p:sp>
        <p:nvSpPr>
          <p:cNvPr id="246" name=""/>
          <p:cNvSpPr/>
          <p:nvPr/>
        </p:nvSpPr>
        <p:spPr>
          <a:xfrm>
            <a:off x="7315200" y="2616120"/>
            <a:ext cx="1347840" cy="459720"/>
          </a:xfrm>
          <a:prstGeom prst="borderCallout1">
            <a:avLst>
              <a:gd name="adj1" fmla="val 18750"/>
              <a:gd name="adj2" fmla="val -8333"/>
              <a:gd name="adj3" fmla="val 418620"/>
              <a:gd name="adj4" fmla="val -107981"/>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 line</a:t>
            </a:r>
            <a:endParaRPr b="0" lang="en-US" sz="2400" spc="-1" strike="noStrike">
              <a:solidFill>
                <a:srgbClr val="000000"/>
              </a:solidFill>
              <a:latin typeface="Times New Roman"/>
            </a:endParaRPr>
          </a:p>
        </p:txBody>
      </p:sp>
      <p:sp>
        <p:nvSpPr>
          <p:cNvPr id="247" name=""/>
          <p:cNvSpPr/>
          <p:nvPr/>
        </p:nvSpPr>
        <p:spPr>
          <a:xfrm>
            <a:off x="4694400" y="2403360"/>
            <a:ext cx="1401480" cy="459720"/>
          </a:xfrm>
          <a:prstGeom prst="borderCallout2">
            <a:avLst>
              <a:gd name="adj1" fmla="val 18750"/>
              <a:gd name="adj2" fmla="val -8333"/>
              <a:gd name="adj3" fmla="val 24490"/>
              <a:gd name="adj4" fmla="val -63078"/>
              <a:gd name="adj5" fmla="val 357824"/>
              <a:gd name="adj6" fmla="val -122750"/>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ehole</a:t>
            </a:r>
            <a:endParaRPr b="0" lang="en-US" sz="2400" spc="-1" strike="noStrike">
              <a:solidFill>
                <a:srgbClr val="000000"/>
              </a:solidFill>
              <a:latin typeface="Times New Roman"/>
            </a:endParaRPr>
          </a:p>
        </p:txBody>
      </p:sp>
      <p:sp>
        <p:nvSpPr>
          <p:cNvPr id="248" name=""/>
          <p:cNvSpPr/>
          <p:nvPr/>
        </p:nvSpPr>
        <p:spPr>
          <a:xfrm>
            <a:off x="914400" y="6019920"/>
            <a:ext cx="7543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7600" y="6019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ile</a:t>
            </a:r>
            <a:endParaRPr b="0" lang="en-US" sz="2400" spc="-1" strike="noStrike">
              <a:solidFill>
                <a:srgbClr val="000000"/>
              </a:solidFill>
              <a:latin typeface="Times New Roman"/>
            </a:endParaRPr>
          </a:p>
        </p:txBody>
      </p:sp>
      <p:sp>
        <p:nvSpPr>
          <p:cNvPr id="250" name=""/>
          <p:cNvSpPr/>
          <p:nvPr/>
        </p:nvSpPr>
        <p:spPr>
          <a:xfrm>
            <a:off x="4267080" y="31240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97762D-93B8-4435-9B11-24EE7175BA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52" name=""/>
          <p:cNvGraphicFramePr/>
          <p:nvPr/>
        </p:nvGraphicFramePr>
        <p:xfrm>
          <a:off x="374760" y="2049480"/>
          <a:ext cx="8458200" cy="4444920"/>
        </p:xfrm>
        <a:graphic>
          <a:graphicData uri="http://schemas.openxmlformats.org/presentationml/2006/ole">
            <p:oleObj progId="Word.Document.12" r:id="rId1" spid="">
              <p:embed/>
              <p:pic>
                <p:nvPicPr>
                  <p:cNvPr id="253" name="" descr=""/>
                  <p:cNvPicPr/>
                  <p:nvPr/>
                </p:nvPicPr>
                <p:blipFill>
                  <a:blip r:embed="rId2"/>
                  <a:stretch/>
                </p:blipFill>
                <p:spPr>
                  <a:xfrm>
                    <a:off x="374760" y="2049480"/>
                    <a:ext cx="8458200" cy="4444920"/>
                  </a:xfrm>
                  <a:prstGeom prst="rect">
                    <a:avLst/>
                  </a:prstGeom>
                  <a:ln w="0">
                    <a:noFill/>
                  </a:ln>
                </p:spPr>
              </p:pic>
            </p:oleObj>
          </a:graphicData>
        </a:graphic>
      </p:graphicFrame>
      <p:sp>
        <p:nvSpPr>
          <p:cNvPr id="3" name="PlaceHolder 2"/>
          <p:cNvSpPr>
            <a:spLocks noGrp="1"/>
          </p:cNvSpPr>
          <p:nvPr>
            <p:ph type="sldNum" idx="3"/>
          </p:nvPr>
        </p:nvSpPr>
        <p:spPr/>
        <p:txBody>
          <a:bodyPr/>
          <a:p>
            <a:fld id="{D6159AF1-5C91-45F8-B43B-0EAD397D69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Construction Contract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F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1"/>
              </a:rPr>
              <a:t>41CF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FA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3"/>
              </a:rPr>
              <a:t>Title 36</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88BB0D-C0B3-4A8C-B401-DFD6A094CA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ublic Contracting Proces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ertis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Proposa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Proposals (Bid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and Awar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rant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1E705D-7427-42D8-B6E9-F63C02FFED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ate Contracting</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controlled by law, excep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s or suppliers on public work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e r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and Audi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gest difference is that private can select bidd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A46B40-4FD6-4584-BDAB-9B1FF48184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carce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outco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budg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erson has responsibility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6F4F67-2B51-426D-9D06-62278429AC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s Liens and Bonding</a:t>
            </a:r>
            <a:endParaRPr b="0" lang="en-US" sz="4400" spc="-1" strike="noStrike">
              <a:solidFill>
                <a:srgbClr val="000000"/>
              </a:solidFill>
              <a:latin typeface="Times New Roman"/>
            </a:endParaRPr>
          </a:p>
        </p:txBody>
      </p:sp>
      <p:sp>
        <p:nvSpPr>
          <p:cNvPr id="261"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aw sit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k lends money to pro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d credito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 laborers, material suppli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ecur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er goes belly u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gets value in buil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get noth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F66993-9A66-4F80-907C-5B236D36F8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s Liens and Bonding</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s lien laws give laborers and others the right to ge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ders and owners often require “payment bonds” of contracto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tha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bo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bon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ublic construction requires all thre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7C8BEF-9D84-43C5-932C-AE749EE66B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onstruction Documents”</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ing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Specific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specifications and technical docu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y statemen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1733C3-A122-4468-B69D-0C636F9F49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 Document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ormalities for public 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ront end” plus Construction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bo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miscellaneous forms, see AD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on-responsive” vs. “Inform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A3FD3F-FF4F-4133-AFC0-96A626B591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OT</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DOT&amp;PF - Statewide Design &amp; Engineering Services - D&amp;CS - Preconstruction</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818830-5414-418A-A89E-226A152453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uses and Problems</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mn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later during negligen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ated Dam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amages for Del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nch Li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l Comple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eficial Occupa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F4BF51-AB4D-43C2-82D0-A84141EBC4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2" name=""/>
          <p:cNvSpPr/>
          <p:nvPr/>
        </p:nvSpPr>
        <p:spPr>
          <a:xfrm>
            <a:off x="6705720" y="3808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781680" y="380880"/>
            <a:ext cx="15242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Material</a:t>
            </a:r>
            <a:endParaRPr b="0" lang="en-US" sz="2000" spc="-1" strike="noStrike">
              <a:solidFill>
                <a:srgbClr val="000000"/>
              </a:solidFill>
              <a:latin typeface="Times New Roman"/>
            </a:endParaRPr>
          </a:p>
        </p:txBody>
      </p:sp>
      <p:sp>
        <p:nvSpPr>
          <p:cNvPr id="274" name=""/>
          <p:cNvSpPr/>
          <p:nvPr/>
        </p:nvSpPr>
        <p:spPr>
          <a:xfrm>
            <a:off x="6172200" y="10666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48520" y="114300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ernment Estimate</a:t>
            </a:r>
            <a:endParaRPr b="0" lang="en-US" sz="2000" spc="-1" strike="noStrike">
              <a:solidFill>
                <a:srgbClr val="000000"/>
              </a:solidFill>
              <a:latin typeface="Times New Roman"/>
            </a:endParaRPr>
          </a:p>
        </p:txBody>
      </p:sp>
      <p:sp>
        <p:nvSpPr>
          <p:cNvPr id="276" name=""/>
          <p:cNvSpPr/>
          <p:nvPr/>
        </p:nvSpPr>
        <p:spPr>
          <a:xfrm>
            <a:off x="5562720" y="1828800"/>
            <a:ext cx="17524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15000" y="190512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ding Document</a:t>
            </a:r>
            <a:endParaRPr b="0" lang="en-US" sz="2000" spc="-1" strike="noStrike">
              <a:solidFill>
                <a:srgbClr val="000000"/>
              </a:solidFill>
              <a:latin typeface="Times New Roman"/>
            </a:endParaRPr>
          </a:p>
        </p:txBody>
      </p:sp>
      <p:sp>
        <p:nvSpPr>
          <p:cNvPr id="278" name=""/>
          <p:cNvSpPr/>
          <p:nvPr/>
        </p:nvSpPr>
        <p:spPr>
          <a:xfrm>
            <a:off x="4724280" y="2514600"/>
            <a:ext cx="175284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76920" y="259092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 for Proposal</a:t>
            </a:r>
            <a:endParaRPr b="0" lang="en-US" sz="2000" spc="-1" strike="noStrike">
              <a:solidFill>
                <a:srgbClr val="000000"/>
              </a:solidFill>
              <a:latin typeface="Times New Roman"/>
            </a:endParaRPr>
          </a:p>
        </p:txBody>
      </p:sp>
      <p:sp>
        <p:nvSpPr>
          <p:cNvPr id="280" name=""/>
          <p:cNvSpPr/>
          <p:nvPr/>
        </p:nvSpPr>
        <p:spPr>
          <a:xfrm>
            <a:off x="3733920" y="3276720"/>
            <a:ext cx="17524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86200" y="3352680"/>
            <a:ext cx="1523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Cost or Pricing Data</a:t>
            </a:r>
            <a:endParaRPr b="0" lang="en-US" sz="2000" spc="-1" strike="noStrike">
              <a:solidFill>
                <a:srgbClr val="000000"/>
              </a:solidFill>
              <a:latin typeface="Times New Roman"/>
            </a:endParaRPr>
          </a:p>
        </p:txBody>
      </p:sp>
      <p:sp>
        <p:nvSpPr>
          <p:cNvPr id="282" name=""/>
          <p:cNvSpPr/>
          <p:nvPr/>
        </p:nvSpPr>
        <p:spPr>
          <a:xfrm>
            <a:off x="3200400" y="1522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52680" y="228600"/>
            <a:ext cx="15242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Analysis</a:t>
            </a:r>
            <a:endParaRPr b="0" lang="en-US" sz="2000" spc="-1" strike="noStrike">
              <a:solidFill>
                <a:srgbClr val="000000"/>
              </a:solidFill>
              <a:latin typeface="Times New Roman"/>
            </a:endParaRPr>
          </a:p>
        </p:txBody>
      </p:sp>
      <p:sp>
        <p:nvSpPr>
          <p:cNvPr id="284" name=""/>
          <p:cNvSpPr/>
          <p:nvPr/>
        </p:nvSpPr>
        <p:spPr>
          <a:xfrm>
            <a:off x="2286000" y="8380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0" y="914400"/>
            <a:ext cx="16765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negotiation Objectives</a:t>
            </a:r>
            <a:endParaRPr b="0" lang="en-US" sz="2000" spc="-1" strike="noStrike">
              <a:solidFill>
                <a:srgbClr val="000000"/>
              </a:solidFill>
              <a:latin typeface="Times New Roman"/>
            </a:endParaRPr>
          </a:p>
        </p:txBody>
      </p:sp>
      <p:sp>
        <p:nvSpPr>
          <p:cNvPr id="286" name=""/>
          <p:cNvSpPr/>
          <p:nvPr/>
        </p:nvSpPr>
        <p:spPr>
          <a:xfrm>
            <a:off x="1371600" y="1600200"/>
            <a:ext cx="17524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71600" y="1676520"/>
            <a:ext cx="16765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e negotiation Memorandum</a:t>
            </a:r>
            <a:endParaRPr b="0" lang="en-US" sz="2000" spc="-1" strike="noStrike">
              <a:solidFill>
                <a:srgbClr val="000000"/>
              </a:solidFill>
              <a:latin typeface="Times New Roman"/>
            </a:endParaRPr>
          </a:p>
        </p:txBody>
      </p:sp>
      <p:sp>
        <p:nvSpPr>
          <p:cNvPr id="288" name=""/>
          <p:cNvSpPr/>
          <p:nvPr/>
        </p:nvSpPr>
        <p:spPr>
          <a:xfrm>
            <a:off x="609480" y="2666880"/>
            <a:ext cx="175284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2120" y="274320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cation (to contract)</a:t>
            </a:r>
            <a:endParaRPr b="0" lang="en-US" sz="2000" spc="-1" strike="noStrike">
              <a:solidFill>
                <a:srgbClr val="000000"/>
              </a:solidFill>
              <a:latin typeface="Times New Roman"/>
            </a:endParaRPr>
          </a:p>
        </p:txBody>
      </p:sp>
      <p:sp>
        <p:nvSpPr>
          <p:cNvPr id="290" name=""/>
          <p:cNvSpPr/>
          <p:nvPr/>
        </p:nvSpPr>
        <p:spPr>
          <a:xfrm>
            <a:off x="0" y="3581280"/>
            <a:ext cx="1752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3809880"/>
            <a:ext cx="15242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o Proceed</a:t>
            </a:r>
            <a:endParaRPr b="0" lang="en-US" sz="2000" spc="-1" strike="noStrike">
              <a:solidFill>
                <a:srgbClr val="000000"/>
              </a:solidFill>
              <a:latin typeface="Times New Roman"/>
            </a:endParaRPr>
          </a:p>
        </p:txBody>
      </p:sp>
      <p:sp>
        <p:nvSpPr>
          <p:cNvPr id="292" name=""/>
          <p:cNvSpPr/>
          <p:nvPr/>
        </p:nvSpPr>
        <p:spPr>
          <a:xfrm flipV="1">
            <a:off x="449568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52280" y="76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s of Engineers, Modification Packag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3EFADB-51BC-48BD-8B16-868E214157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rder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s examp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ing site cond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y I vs. I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s Administ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ve procedur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2C62AA-F15D-4E8F-9245-BC3FDDB02B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 Viewpoint on Project</a:t>
            </a:r>
            <a:endParaRPr b="0" lang="en-US" sz="4400" spc="-1" strike="noStrike">
              <a:solidFill>
                <a:srgbClr val="000000"/>
              </a:solidFill>
              <a:latin typeface="Times New Roman"/>
            </a:endParaRPr>
          </a:p>
        </p:txBody>
      </p:sp>
      <p:sp>
        <p:nvSpPr>
          <p:cNvPr id="2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D0FCC4-BCC1-42B3-92E1-B8E396D9AA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Planning, and Programming</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Sel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Conce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 and Programm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Timing? Co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97F9F-BE8F-4234-8946-5954EEA7CB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ife Cycl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8" name=""/>
          <p:cNvGraphicFramePr/>
          <p:nvPr/>
        </p:nvGraphicFramePr>
        <p:xfrm>
          <a:off x="349200" y="1047600"/>
          <a:ext cx="10001160" cy="5810400"/>
        </p:xfrm>
        <a:graphic>
          <a:graphicData uri="http://schemas.openxmlformats.org/presentationml/2006/ole">
            <p:oleObj progId="Word.Document.12" r:id="rId1" spid="">
              <p:embed/>
              <p:pic>
                <p:nvPicPr>
                  <p:cNvPr id="59" name="" descr=""/>
                  <p:cNvPicPr/>
                  <p:nvPr/>
                </p:nvPicPr>
                <p:blipFill>
                  <a:blip r:embed="rId2"/>
                  <a:stretch/>
                </p:blipFill>
                <p:spPr>
                  <a:xfrm>
                    <a:off x="349200" y="1047600"/>
                    <a:ext cx="10001160" cy="5810400"/>
                  </a:xfrm>
                  <a:prstGeom prst="rect">
                    <a:avLst/>
                  </a:prstGeom>
                  <a:ln w="0">
                    <a:noFill/>
                  </a:ln>
                </p:spPr>
              </p:pic>
            </p:oleObj>
          </a:graphicData>
        </a:graphic>
      </p:graphicFrame>
      <p:sp>
        <p:nvSpPr>
          <p:cNvPr id="4" name="PlaceHolder 3"/>
          <p:cNvSpPr>
            <a:spLocks noGrp="1"/>
          </p:cNvSpPr>
          <p:nvPr>
            <p:ph type="sldNum" idx="3"/>
          </p:nvPr>
        </p:nvSpPr>
        <p:spPr/>
        <p:txBody>
          <a:bodyPr/>
          <a:p>
            <a:fld id="{39D2CE34-BCF5-40FD-970F-47B4B3647E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00" name="ProjectPhases" descr=""/>
          <p:cNvPicPr/>
          <p:nvPr/>
        </p:nvPicPr>
        <p:blipFill>
          <a:blip r:embed="rId1"/>
          <a:stretch/>
        </p:blipFill>
        <p:spPr>
          <a:xfrm>
            <a:off x="609480" y="457200"/>
            <a:ext cx="8077320" cy="5791320"/>
          </a:xfrm>
          <a:prstGeom prst="rect">
            <a:avLst/>
          </a:prstGeom>
          <a:ln w="0">
            <a:noFill/>
          </a:ln>
        </p:spPr>
      </p:pic>
      <p:sp>
        <p:nvSpPr>
          <p:cNvPr id="2" name="PlaceHolder 1"/>
          <p:cNvSpPr>
            <a:spLocks noGrp="1"/>
          </p:cNvSpPr>
          <p:nvPr>
            <p:ph type="sldNum" idx="3"/>
          </p:nvPr>
        </p:nvSpPr>
        <p:spPr/>
        <p:txBody>
          <a:bodyPr/>
          <a:p>
            <a:fld id="{F6C99CF4-49CD-44B4-9815-27286CB35C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for the Plan</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early as possible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cient time and budget must be available to properly pla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must ask for these resources before very much is definitely kn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tly, little planning i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til the need for the project is gre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235017-2B46-46CF-A44A-EE428AB8E7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the first real planning and programming revels that the project is behind schedule alrea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Superintendent to young engineer Perkins, about 1970 or so, “We weren’t supposed to be this far behind schedule for months y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0F6C89-1777-40C8-80DE-F4DA335A12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tly</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ep for a new project is to secure adequate resources for proper planning of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selection process” always requires estimates of funds required for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 are asking for resources for a project, before it is “select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st resource need is often peop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C9E4A9-AE54-4D99-B837-0B9A44F109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vs. Private</a:t>
            </a: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new construction (“capital project”) and “maintenance” is established by law.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 projects always require approval of a legislative (law making) bod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requires approval of a board of directo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rojects always 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C71993-64F1-4EEB-8E5A-FDC6845CE5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fourth aspect of project management</a:t>
            </a:r>
            <a:endParaRPr b="0" lang="en-US" sz="40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project fit into the organization and its strateg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1F6D1E-9334-437F-9C6B-55FF6B65E3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gram” may have several proje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Improve the Alaska Highway to national highway system standar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surface roadway, Mile 480 to Mile 51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pen new gravel source, East of Delta Jun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route Mile 430 to 45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9B547C-724C-47C6-A399-55C2D2303C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thin Projects</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ndard nomenc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r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logical breakdow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B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F76786-0EFC-4F25-9B63-E3C6D5FB21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Taxes</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xpense” vs. “Capital Expendi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it is the “net” or difference between income and co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taxes only on prof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goods with a life less than one year, consumable supplies, and salaries are examples of costs that are expen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0FF126-F138-411B-9826-FF9215A352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ital Expenditures</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that have lives longer than one year are capital expenditur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building, automobile, computer for 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cost may not be taken as an expense in the first year, rather the initial cost must be depreciated over the life of the goo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s are almost always capital expenditur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728CFC-AA81-48A6-81D0-2EF8E8AB25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le of Orga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4343400" y="2590920"/>
            <a:ext cx="1600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ment</a:t>
            </a:r>
            <a:endParaRPr b="0" lang="en-US" sz="2400" spc="-1" strike="noStrike">
              <a:solidFill>
                <a:srgbClr val="000000"/>
              </a:solidFill>
              <a:latin typeface="Times New Roman"/>
            </a:endParaRPr>
          </a:p>
        </p:txBody>
      </p:sp>
      <p:sp>
        <p:nvSpPr>
          <p:cNvPr id="63" name=""/>
          <p:cNvSpPr/>
          <p:nvPr/>
        </p:nvSpPr>
        <p:spPr>
          <a:xfrm>
            <a:off x="1143000" y="396252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4" name=""/>
          <p:cNvSpPr/>
          <p:nvPr/>
        </p:nvSpPr>
        <p:spPr>
          <a:xfrm>
            <a:off x="4419720" y="3886200"/>
            <a:ext cx="1447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5" name=""/>
          <p:cNvSpPr/>
          <p:nvPr/>
        </p:nvSpPr>
        <p:spPr>
          <a:xfrm>
            <a:off x="7315200" y="380988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6" name=""/>
          <p:cNvSpPr/>
          <p:nvPr/>
        </p:nvSpPr>
        <p:spPr>
          <a:xfrm>
            <a:off x="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67" name=""/>
          <p:cNvSpPr/>
          <p:nvPr/>
        </p:nvSpPr>
        <p:spPr>
          <a:xfrm>
            <a:off x="2286000" y="4800600"/>
            <a:ext cx="1066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68" name=""/>
          <p:cNvSpPr/>
          <p:nvPr/>
        </p:nvSpPr>
        <p:spPr>
          <a:xfrm>
            <a:off x="1039680" y="4826160"/>
            <a:ext cx="9907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69" name=""/>
          <p:cNvSpPr/>
          <p:nvPr/>
        </p:nvSpPr>
        <p:spPr>
          <a:xfrm>
            <a:off x="403848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70" name=""/>
          <p:cNvSpPr/>
          <p:nvPr/>
        </p:nvSpPr>
        <p:spPr>
          <a:xfrm>
            <a:off x="624852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71" name=""/>
          <p:cNvSpPr/>
          <p:nvPr/>
        </p:nvSpPr>
        <p:spPr>
          <a:xfrm>
            <a:off x="5105520" y="4800600"/>
            <a:ext cx="990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72" name=""/>
          <p:cNvSpPr/>
          <p:nvPr/>
        </p:nvSpPr>
        <p:spPr>
          <a:xfrm>
            <a:off x="1219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3" name=""/>
          <p:cNvSpPr/>
          <p:nvPr/>
        </p:nvSpPr>
        <p:spPr>
          <a:xfrm>
            <a:off x="2057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4" name=""/>
          <p:cNvSpPr/>
          <p:nvPr/>
        </p:nvSpPr>
        <p:spPr>
          <a:xfrm>
            <a:off x="28954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5" name=""/>
          <p:cNvSpPr/>
          <p:nvPr/>
        </p:nvSpPr>
        <p:spPr>
          <a:xfrm>
            <a:off x="38098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6" name=""/>
          <p:cNvSpPr/>
          <p:nvPr/>
        </p:nvSpPr>
        <p:spPr>
          <a:xfrm>
            <a:off x="4648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7" name=""/>
          <p:cNvSpPr/>
          <p:nvPr/>
        </p:nvSpPr>
        <p:spPr>
          <a:xfrm>
            <a:off x="5486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8" name=""/>
          <p:cNvSpPr/>
          <p:nvPr/>
        </p:nvSpPr>
        <p:spPr>
          <a:xfrm>
            <a:off x="5181480" y="304812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752480" y="3429000"/>
            <a:ext cx="6400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52480" y="3429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153280" y="34290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0040" y="4432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3520" y="457200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97180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35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7180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76520" y="54100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6765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181480" y="4375080"/>
            <a:ext cx="648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495680" y="457200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81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5627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95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9568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91120" y="54100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911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0292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6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F3DF60-47B8-4175-817F-7A95E1FD18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EBC939-F419-459E-A358-DB53D42F72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Government Term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Branch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ic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FCCD5E-AEEE-41E8-AF35-1B72481F03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ve</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i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binet Department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ens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merc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alth Education Welf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vironmental Protection Agency (EPA)</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F19BFC-7B47-4D7A-B724-CE9891F307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hou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e of Representati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7D0730-0B8C-4D3C-BA82-3A44248535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Governments</a:t>
            </a: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CC380E-9DEA-46FA-A0F2-AFE2E53002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nicipal</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ways legislative, but never called th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c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is often el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appointed by the legisla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municipalities have petty cou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CC86D5-089D-4F6A-A8EF-AD6C5AF274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Government Orgs.</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independent corporation within state or local</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 district</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ed </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ding from local government</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tine funding within budget from local government</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projects must have special funding</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ard of Regent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ding from legislature, tuition, other</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 funding for capital project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Authorit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ding from enterpris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0A2491E-78AB-48C1-815D-011EC20C5E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 a Project</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es and the General Fu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money from tax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Obligation Bond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back by the taxpayers over tim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Bond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back from revenue from the proje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irport or dock</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require legislative approv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A5D9B7-3393-4A72-8D8E-E222F39DD5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Politics</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ve district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ves and Senators want money spent in their home distric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ve want job done, does not care which distric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of Conflic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Year</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must be spent (or committed) in a particular year.</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uthorized but not funded”</a:t>
            </a:r>
            <a:endParaRPr b="0" lang="en-US" sz="24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ind future legislatur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5B19C9-2DFE-4BE8-93DD-76BF1411BC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D 1391</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basic programming document in the military construction process, the DD 139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one page documents goes to congress and is part of the military appropriations law for that ye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F3DCB8-AB9D-4D7B-BABE-124EBCFA04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by discipline or f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 vs. Staff</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2666880" y="38098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el</a:t>
            </a:r>
            <a:endParaRPr b="0" lang="en-US" sz="2400" spc="-1" strike="noStrike">
              <a:solidFill>
                <a:srgbClr val="000000"/>
              </a:solidFill>
              <a:latin typeface="Times New Roman"/>
            </a:endParaRPr>
          </a:p>
        </p:txBody>
      </p:sp>
      <p:sp>
        <p:nvSpPr>
          <p:cNvPr id="104" name=""/>
          <p:cNvSpPr/>
          <p:nvPr/>
        </p:nvSpPr>
        <p:spPr>
          <a:xfrm>
            <a:off x="990720" y="5410080"/>
            <a:ext cx="1904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Times New Roman"/>
            </a:endParaRPr>
          </a:p>
        </p:txBody>
      </p:sp>
      <p:sp>
        <p:nvSpPr>
          <p:cNvPr id="105" name=""/>
          <p:cNvSpPr/>
          <p:nvPr/>
        </p:nvSpPr>
        <p:spPr>
          <a:xfrm>
            <a:off x="3505320" y="533412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106" name=""/>
          <p:cNvSpPr/>
          <p:nvPr/>
        </p:nvSpPr>
        <p:spPr>
          <a:xfrm>
            <a:off x="5486400" y="541008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a:t>
            </a:r>
            <a:endParaRPr b="0" lang="en-US" sz="2400" spc="-1" strike="noStrike">
              <a:solidFill>
                <a:srgbClr val="000000"/>
              </a:solidFill>
              <a:latin typeface="Times New Roman"/>
            </a:endParaRPr>
          </a:p>
        </p:txBody>
      </p:sp>
      <p:sp>
        <p:nvSpPr>
          <p:cNvPr id="107" name=""/>
          <p:cNvSpPr/>
          <p:nvPr/>
        </p:nvSpPr>
        <p:spPr>
          <a:xfrm>
            <a:off x="3809880" y="4267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81080" y="4876920"/>
            <a:ext cx="426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91120" y="4876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24852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9880" y="44956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010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B</a:t>
            </a:r>
            <a:endParaRPr b="0" lang="en-US" sz="2400" spc="-1" strike="noStrike">
              <a:solidFill>
                <a:srgbClr val="000000"/>
              </a:solidFill>
              <a:latin typeface="Times New Roman"/>
            </a:endParaRPr>
          </a:p>
        </p:txBody>
      </p:sp>
      <p:sp>
        <p:nvSpPr>
          <p:cNvPr id="114" name=""/>
          <p:cNvSpPr/>
          <p:nvPr/>
        </p:nvSpPr>
        <p:spPr>
          <a:xfrm>
            <a:off x="66294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A</a:t>
            </a:r>
            <a:endParaRPr b="0" lang="en-US" sz="2400" spc="-1" strike="noStrike">
              <a:solidFill>
                <a:srgbClr val="000000"/>
              </a:solidFill>
              <a:latin typeface="Times New Roman"/>
            </a:endParaRPr>
          </a:p>
        </p:txBody>
      </p:sp>
      <p:sp>
        <p:nvSpPr>
          <p:cNvPr id="115" name=""/>
          <p:cNvSpPr/>
          <p:nvPr/>
        </p:nvSpPr>
        <p:spPr>
          <a:xfrm>
            <a:off x="72388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6104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4669A5-3A90-45CF-B6B0-87B79FF45D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brief summary of the project, but has the essentials of cost, schedule and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e the lack of det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ocument will become the “law” under which the project is bui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8DE04D-BEEF-4716-B6FE-034B710084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73BF44-B8B8-4AAF-9560-EEBCEC26DA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42" name="j0370974" descr=""/>
          <p:cNvPicPr/>
          <p:nvPr/>
        </p:nvPicPr>
        <p:blipFill>
          <a:blip r:embed="rId1"/>
          <a:stretch/>
        </p:blipFill>
        <p:spPr>
          <a:xfrm>
            <a:off x="1447920" y="1397160"/>
            <a:ext cx="6019560" cy="4546440"/>
          </a:xfrm>
          <a:prstGeom prst="rect">
            <a:avLst/>
          </a:prstGeom>
          <a:ln w="0">
            <a:noFill/>
          </a:ln>
        </p:spPr>
      </p:pic>
      <p:sp>
        <p:nvSpPr>
          <p:cNvPr id="2" name="PlaceHolder 1"/>
          <p:cNvSpPr>
            <a:spLocks noGrp="1"/>
          </p:cNvSpPr>
          <p:nvPr>
            <p:ph type="sldNum" idx="3"/>
          </p:nvPr>
        </p:nvSpPr>
        <p:spPr/>
        <p:txBody>
          <a:bodyPr/>
          <a:p>
            <a:fld id="{AA21F042-C6C2-4A57-97F9-5771B196FE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in the U.S. is highly regul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projects often require permits from Federal, State, and Local Agen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ermits are specified in the regulations and usually require certain details be provided before work is allowed to proce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142A7-4422-429E-8D61-1A8BC28E62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often have </a:t>
            </a:r>
            <a:r>
              <a:rPr b="0" lang="en-US" sz="3200" spc="-1" strike="noStrike" u="sng">
                <a:solidFill>
                  <a:srgbClr val="000000"/>
                </a:solidFill>
                <a:uFillTx/>
                <a:latin typeface="Times New Roman"/>
              </a:rPr>
              <a:t>stipulations</a:t>
            </a:r>
            <a:r>
              <a:rPr b="0" lang="en-US" sz="3200" spc="-1" strike="noStrike">
                <a:solidFill>
                  <a:srgbClr val="000000"/>
                </a:solidFill>
                <a:latin typeface="Times New Roman"/>
              </a:rPr>
              <a:t> that require work be done in a certain manner, or at a certai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f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public notice and comment peri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1BBC69-5C26-4607-8BB3-A89D3B5451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he permitting agency and those who are likely to comment are important stakeholders in the proj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003B55-2655-49C5-8A87-B649B0231E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533520" y="9144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rmits are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not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elays and problems in major projects are due to “permitting.”</a:t>
            </a:r>
            <a:endParaRPr b="0" lang="en-US" sz="3200" spc="-1" strike="noStrike">
              <a:solidFill>
                <a:srgbClr val="000000"/>
              </a:solidFill>
              <a:latin typeface="Times New Roman"/>
            </a:endParaRPr>
          </a:p>
        </p:txBody>
      </p:sp>
      <p:graphicFrame>
        <p:nvGraphicFramePr>
          <p:cNvPr id="351" name=""/>
          <p:cNvGraphicFramePr/>
          <p:nvPr/>
        </p:nvGraphicFramePr>
        <p:xfrm>
          <a:off x="2133720" y="4038480"/>
          <a:ext cx="3352680" cy="2210040"/>
        </p:xfrm>
        <a:graphic>
          <a:graphicData uri="http://schemas.openxmlformats.org/presentationml/2006/ole">
            <p:oleObj r:id="rId1" spid="">
              <p:embed/>
              <p:pic>
                <p:nvPicPr>
                  <p:cNvPr id="352" name="" descr=""/>
                  <p:cNvPicPr/>
                  <p:nvPr/>
                </p:nvPicPr>
                <p:blipFill>
                  <a:blip r:embed="rId2"/>
                  <a:stretch/>
                </p:blipFill>
                <p:spPr>
                  <a:xfrm>
                    <a:off x="2133720" y="4038480"/>
                    <a:ext cx="3352680" cy="2210040"/>
                  </a:xfrm>
                  <a:prstGeom prst="rect">
                    <a:avLst/>
                  </a:prstGeom>
                  <a:ln w="0">
                    <a:noFill/>
                  </a:ln>
                </p:spPr>
              </p:pic>
            </p:oleObj>
          </a:graphicData>
        </a:graphic>
      </p:graphicFrame>
      <p:sp>
        <p:nvSpPr>
          <p:cNvPr id="4" name="PlaceHolder 3"/>
          <p:cNvSpPr>
            <a:spLocks noGrp="1"/>
          </p:cNvSpPr>
          <p:nvPr>
            <p:ph type="sldNum" idx="3"/>
          </p:nvPr>
        </p:nvSpPr>
        <p:spPr/>
        <p:txBody>
          <a:bodyPr/>
          <a:p>
            <a:fld id="{DA727B17-3A38-4B19-BA5F-2081DDF8F9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t Knox Gold Mine required over 300 separate perm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enumerate the permits early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n the concept st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AD2DA9-AC0B-46EA-81D8-A370B461AD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important</a:t>
            </a: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a:t>
            </a:r>
            <a:r>
              <a:rPr b="0" lang="en-US" sz="3200" spc="-1" strike="noStrike">
                <a:solidFill>
                  <a:srgbClr val="000000"/>
                </a:solidFill>
                <a:latin typeface="Times New Roman"/>
              </a:rPr>
              <a:t> in the project is responsible for getting which perm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t is the Owner, but with the Designer’s sup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DAEAF9-65D7-4789-BC70-CBA4904437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first: (It is better for your morale if you consider the important purpose that is driving the regulation and permitting process rather than regarding the regulators as “obstructionists that do not want the project buil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S. bribery is uncommon in the permitting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 is common, but (Perkins opinion) its effects are exaggerated by people who “have not done their homewor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D910BD-D045-44D4-962E-3EF27E123A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t>
            </a:r>
            <a:r>
              <a:rPr b="0" lang="en-US" sz="3200" spc="-1" strike="noStrike" u="sng">
                <a:solidFill>
                  <a:srgbClr val="ccccff"/>
                </a:solidFill>
                <a:uFillTx/>
                <a:latin typeface="Times New Roman"/>
                <a:hlinkClick r:id="rId2"/>
              </a:rPr>
              <a:t>miamidade</a:t>
            </a:r>
            <a:r>
              <a:rPr b="0" lang="en-US" sz="3200" spc="-1" strike="noStrike" u="sng">
                <a:solidFill>
                  <a:srgbClr val="ccccff"/>
                </a:solidFill>
                <a:uFillTx/>
                <a:latin typeface="Times New Roman"/>
                <a:hlinkClick r:id="rId3"/>
              </a:rPr>
              <a:t>.</a:t>
            </a:r>
            <a:r>
              <a:rPr b="0" lang="en-US" sz="3200" spc="-1" strike="noStrike" u="sng">
                <a:solidFill>
                  <a:srgbClr val="ccccff"/>
                </a:solidFill>
                <a:uFillTx/>
                <a:latin typeface="Times New Roman"/>
                <a:hlinkClick r:id="rId4"/>
              </a:rPr>
              <a:t>gov</a:t>
            </a:r>
            <a:r>
              <a:rPr b="0" lang="en-US" sz="3200" spc="-1" strike="noStrike" u="sng">
                <a:solidFill>
                  <a:srgbClr val="ccccff"/>
                </a:solidFill>
                <a:uFillTx/>
                <a:latin typeface="Times New Roman"/>
                <a:hlinkClick r:id="rId5"/>
              </a:rPr>
              <a:t>/</a:t>
            </a:r>
            <a:r>
              <a:rPr b="0" lang="en-US" sz="3200" spc="-1" strike="noStrike" u="sng">
                <a:solidFill>
                  <a:srgbClr val="ccccff"/>
                </a:solidFill>
                <a:uFillTx/>
                <a:latin typeface="Times New Roman"/>
                <a:hlinkClick r:id="rId6"/>
              </a:rPr>
              <a:t>wasd</a:t>
            </a:r>
            <a:r>
              <a:rPr b="0" lang="en-US" sz="3200" spc="-1" strike="noStrike" u="sng">
                <a:solidFill>
                  <a:srgbClr val="ccccff"/>
                </a:solidFill>
                <a:uFillTx/>
                <a:latin typeface="Times New Roman"/>
                <a:hlinkClick r:id="rId7"/>
              </a:rPr>
              <a:t>/about_table_org.as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5248DE-9D26-4849-95BE-C6692F65E9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Government</a:t>
            </a: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and zon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Permi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or each trade: general, plumbing, electrical</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protection may be separat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roa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 heavy, very large or dangerous materials over local roads (State permit will also be required)</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and  Perman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592B89-66BC-4153-B1EF-FAAD163C36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Environmental</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water and water (out-of-town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quality for boilers and generators (both temporary and perman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disposal pl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pollution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mwater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state.ak.us/local/akpages/ENV.CONSERV/permits.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info.dec.state.ak.us/sps/document.as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C91B2D-0DD9-4E62-B7AB-DB5E29F78F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nds Department</a:t>
            </a: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ate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anent, need “right of wa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timber or clear 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n w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s mining (grave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EBA446-9EE9-4BC9-933F-4C35A31FF5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Fish and Game</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er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for permanent culverts and bridg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8A3B29-BBB4-4668-B54D-82F0C40797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bor</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vat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A31A32-9AEA-4056-AC28-452372A624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Health</a:t>
            </a: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E1B454-FC23-4A32-B4DE-68DA6E0253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Transportation</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or Heavy L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up restri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3EEE7B-D1C4-4112-AB7A-14F65B0F73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Lands</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Right of Way, etc. on Federal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s, including gravel and soil, for co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7E6C42-433C-4FCB-A659-BE1D354E77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Environmental</a:t>
            </a: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same as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e spoi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5DBB8A-8EB1-4959-93A0-45F78F8CF3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Assessments </a:t>
            </a: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 National Environmental Policy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s basic policy is to assure that all branches of government give proper consideration to the environment prior to undertaking any </a:t>
            </a:r>
            <a:r>
              <a:rPr b="0" lang="en-US" sz="3200" spc="-1" strike="noStrike" u="sng">
                <a:solidFill>
                  <a:srgbClr val="000000"/>
                </a:solidFill>
                <a:uFillTx/>
                <a:latin typeface="Times New Roman"/>
              </a:rPr>
              <a:t>major </a:t>
            </a:r>
            <a:r>
              <a:rPr b="0" lang="en-US" sz="3200" spc="-1" strike="noStrike">
                <a:solidFill>
                  <a:srgbClr val="000000"/>
                </a:solidFill>
                <a:latin typeface="Times New Roman"/>
              </a:rPr>
              <a:t>federal action that </a:t>
            </a:r>
            <a:r>
              <a:rPr b="0" lang="en-US" sz="3200" spc="-1" strike="noStrike" u="sng">
                <a:solidFill>
                  <a:srgbClr val="000000"/>
                </a:solidFill>
                <a:uFillTx/>
                <a:latin typeface="Times New Roman"/>
              </a:rPr>
              <a:t>significantly</a:t>
            </a:r>
            <a:r>
              <a:rPr b="0" lang="en-US" sz="3200" spc="-1" strike="noStrike">
                <a:solidFill>
                  <a:srgbClr val="000000"/>
                </a:solidFill>
                <a:latin typeface="Times New Roman"/>
              </a:rPr>
              <a:t> affects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screen all a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0C732E-EBC4-4AA0-A022-EFD03F4AF5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ff Funct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s of Engineers, Alask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Alaska District Corps of Engineers - Organization Cha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CFE3AD-A030-4181-89AB-EDE39E8EA9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reening Process</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action excluded by the la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determine the significance to the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ttle handle” concep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D43761-DE01-442D-AFAD-0986E2FDB9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81" name="image002" descr=""/>
          <p:cNvPicPr/>
          <p:nvPr/>
        </p:nvPicPr>
        <p:blipFill>
          <a:blip r:embed="rId1"/>
          <a:stretch/>
        </p:blipFill>
        <p:spPr>
          <a:xfrm>
            <a:off x="990720" y="-762120"/>
            <a:ext cx="7238880" cy="8229600"/>
          </a:xfrm>
          <a:prstGeom prst="rect">
            <a:avLst/>
          </a:prstGeom>
          <a:ln w="0">
            <a:noFill/>
          </a:ln>
        </p:spPr>
      </p:pic>
      <p:sp>
        <p:nvSpPr>
          <p:cNvPr id="382" name=""/>
          <p:cNvSpPr/>
          <p:nvPr/>
        </p:nvSpPr>
        <p:spPr>
          <a:xfrm>
            <a:off x="762120" y="-990720"/>
            <a:ext cx="1218960" cy="906804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371600" y="-914400"/>
            <a:ext cx="7315200" cy="9144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D294F7-1AAF-41EB-BE9B-AF5E02BEC1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s of Engineers</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change to “navigable” ri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k, brid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in “wetla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B24D72-64C5-48BA-B40E-AFF0763203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Aviation</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s over a certain h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r airpo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B8F000-DBCF-425E-AD43-7E4EC5D15A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Communications</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ad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420058-E981-4D94-A065-538AA111B7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se tak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desig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umber of people in a construction cam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fish are migra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D992F4-8C67-4D7F-BA64-24E0819B77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a:t>
            </a: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quisition of the proper permits must be accounted for in the projec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 task for each permit should be in the CP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94" name="j0157323" descr=""/>
          <p:cNvPicPr/>
          <p:nvPr/>
        </p:nvPicPr>
        <p:blipFill>
          <a:blip r:embed="rId1"/>
          <a:stretch/>
        </p:blipFill>
        <p:spPr>
          <a:xfrm>
            <a:off x="2666880" y="4191120"/>
            <a:ext cx="2895840" cy="2243160"/>
          </a:xfrm>
          <a:prstGeom prst="rect">
            <a:avLst/>
          </a:prstGeom>
          <a:ln w="0">
            <a:noFill/>
          </a:ln>
        </p:spPr>
      </p:pic>
      <p:sp>
        <p:nvSpPr>
          <p:cNvPr id="4" name="PlaceHolder 3"/>
          <p:cNvSpPr>
            <a:spLocks noGrp="1"/>
          </p:cNvSpPr>
          <p:nvPr>
            <p:ph type="sldNum" idx="3"/>
          </p:nvPr>
        </p:nvSpPr>
        <p:spPr/>
        <p:txBody>
          <a:bodyPr/>
          <a:p>
            <a:fld id="{BE7504F2-3CC0-427E-88A2-8C82E9822E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permit for 20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it must be enlarged to  a 25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need to review ALL the permi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s need to be modifi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is is a major modification, you may have to go through the entire public review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A5BC96-F727-42BB-AF43-A24D587831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is may “cutting red tape” or cutting the ribbon at the opening of his project?</a:t>
            </a:r>
            <a:endParaRPr b="0" lang="en-US" sz="4400" spc="-1" strike="noStrike">
              <a:solidFill>
                <a:srgbClr val="000000"/>
              </a:solidFill>
              <a:latin typeface="Times New Roman"/>
            </a:endParaRPr>
          </a:p>
        </p:txBody>
      </p:sp>
      <p:pic>
        <p:nvPicPr>
          <p:cNvPr id="398" name="j0370020" descr=""/>
          <p:cNvPicPr/>
          <p:nvPr/>
        </p:nvPicPr>
        <p:blipFill>
          <a:blip r:embed="rId1"/>
          <a:stretch/>
        </p:blipFill>
        <p:spPr>
          <a:xfrm>
            <a:off x="1600200" y="2362320"/>
            <a:ext cx="4876920" cy="3625560"/>
          </a:xfrm>
          <a:prstGeom prst="rect">
            <a:avLst/>
          </a:prstGeom>
          <a:ln w="0">
            <a:noFill/>
          </a:ln>
        </p:spPr>
      </p:pic>
      <p:sp>
        <p:nvSpPr>
          <p:cNvPr id="3" name="PlaceHolder 2"/>
          <p:cNvSpPr>
            <a:spLocks noGrp="1"/>
          </p:cNvSpPr>
          <p:nvPr>
            <p:ph type="sldNum" idx="3"/>
          </p:nvPr>
        </p:nvSpPr>
        <p:spPr/>
        <p:txBody>
          <a:bodyPr/>
          <a:p>
            <a:fld id="{D4A010EF-A83C-4305-9CED-06C2F9091A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 and Standards</a:t>
            </a:r>
            <a:endParaRPr b="0" lang="en-US" sz="4400" spc="-1" strike="noStrike">
              <a:solidFill>
                <a:srgbClr val="000000"/>
              </a:solidFill>
              <a:latin typeface="Times New Roman"/>
            </a:endParaRPr>
          </a:p>
        </p:txBody>
      </p:sp>
      <p:sp>
        <p:nvSpPr>
          <p:cNvPr id="4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6ED93B-32E4-4EFE-9D88-A2ACBEB041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02:46:36Z</dcterms:created>
  <dc:creator>diane perkins</dc:creator>
  <dc:description/>
  <dc:language>en-US</dc:language>
  <cp:lastModifiedBy>Robert A. Perkins</cp:lastModifiedBy>
  <dcterms:modified xsi:type="dcterms:W3CDTF">2005-01-21T03:15:07Z</dcterms:modified>
  <cp:revision>18</cp:revision>
  <dc:subject/>
  <dc:title>Project Management</dc:title>
</cp:coreProperties>
</file>